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2.png" ContentType="image/png"/>
  <Override PartName="/ppt/media/image13.png" ContentType="image/png"/>
  <Override PartName="/ppt/media/image11.jpeg" ContentType="image/jpeg"/>
  <Override PartName="/ppt/media/image7.gif" ContentType="image/gif"/>
  <Override PartName="/ppt/media/image5.jpeg" ContentType="image/jpeg"/>
  <Override PartName="/ppt/media/image17.png" ContentType="image/png"/>
  <Override PartName="/ppt/media/image10.wmf" ContentType="image/x-wmf"/>
  <Override PartName="/ppt/media/image4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wmf" ContentType="image/x-wmf"/>
  <Override PartName="/ppt/media/image3.jpeg" ContentType="image/jpeg"/>
  <Override PartName="/ppt/media/image8.gif" ContentType="image/gif"/>
  <Override PartName="/ppt/media/image19.wmf" ContentType="image/x-wmf"/>
  <Override PartName="/ppt/media/image18.jpeg" ContentType="image/jpeg"/>
  <Override PartName="/ppt/media/image9.wmf" ContentType="image/x-wmf"/>
  <Override PartName="/ppt/media/image6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A25D71-F71F-4324-A8CE-6CB45C547C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76136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745920" y="4290120"/>
            <a:ext cx="76136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ECCEB1-6D3B-413B-9B2D-35008F4352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47240" y="193824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45920" y="429012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47240" y="429012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D8E326-DFE8-4993-AC1B-4BFB9063942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24512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20280" y="1938240"/>
            <a:ext cx="24512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894280" y="1938240"/>
            <a:ext cx="24512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745920" y="4290120"/>
            <a:ext cx="24512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320280" y="4290120"/>
            <a:ext cx="24512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894280" y="4290120"/>
            <a:ext cx="24512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59D894-4789-4A20-A8EE-68DB7718143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1ACD52-B471-4FD9-ABD2-7EB2D924A20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745920" y="1938240"/>
            <a:ext cx="761364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EC9CCA-EC98-4131-A7C1-52F5A4BFC01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761364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AD6EE9-7430-47C3-8900-A029E70FC2F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1520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240" y="1938240"/>
            <a:ext cx="371520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D17B5F-53A9-4CDA-8164-F2BE3E58A66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837910-917B-4619-BCC7-33315B7F681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71400" y="635040"/>
            <a:ext cx="7785360" cy="52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8524FB-1E42-4997-A6E6-BABCE1A7D7D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47240" y="1938240"/>
            <a:ext cx="371520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745920" y="429012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511E4C-11D8-47D4-90E1-EDF4E36E07D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745920" y="1938240"/>
            <a:ext cx="761364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8CE868-A028-4435-AB61-6E135905EE5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1520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47240" y="193824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47240" y="429012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33AA54-2597-43CB-B3C5-650E2182EA9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47240" y="193824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745920" y="4290120"/>
            <a:ext cx="76136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9D528B-30BD-4BA7-8C62-ECFC43FFF36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76136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745920" y="4290120"/>
            <a:ext cx="76136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3E7EE9-5CD2-42D7-8A1B-F4C83E82CB1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47240" y="193824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745920" y="429012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47240" y="429012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264F54-A41C-4828-9BAC-64E84B4F49A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24512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320280" y="1938240"/>
            <a:ext cx="24512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894280" y="1938240"/>
            <a:ext cx="24512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745920" y="4290120"/>
            <a:ext cx="24512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320280" y="4290120"/>
            <a:ext cx="24512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894280" y="4290120"/>
            <a:ext cx="24512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DFE5DD-A807-4633-A700-45488C262EB7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46B8F-6BA3-4ED3-B787-BC33CDB4166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745920" y="1938240"/>
            <a:ext cx="761364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A5371-97B6-4E37-87C1-D699248E477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761364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0BC5A-C4C4-4B2F-B502-E6E9DC6E319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1520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47240" y="1938240"/>
            <a:ext cx="371520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4E616-44B6-4EA8-8A20-8ECF776F702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CBC7C-3360-4C39-885F-F5F21D4E163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761364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44417C-9B9C-4E89-996B-B93A655F113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71400" y="635040"/>
            <a:ext cx="7785360" cy="52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FABC0-A2EA-49BE-BB19-FC8427E1BB9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47240" y="1938240"/>
            <a:ext cx="371520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745920" y="429012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6808D-78B6-40DF-8210-E099AE68C19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1520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47240" y="193824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47240" y="429012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00B78-AD8A-49F2-899B-57196384201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47240" y="193824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745920" y="4290120"/>
            <a:ext cx="76136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BD49D-7F9F-43F8-B410-B562CA102E8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76136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745920" y="4290120"/>
            <a:ext cx="76136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B9565-0E73-448C-BB5B-CD17FE3E60B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47240" y="193824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745920" y="429012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47240" y="429012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051DF-E1B6-4907-9507-824AC14BE9D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24512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320280" y="1938240"/>
            <a:ext cx="24512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94280" y="1938240"/>
            <a:ext cx="24512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745920" y="4290120"/>
            <a:ext cx="24512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320280" y="4290120"/>
            <a:ext cx="24512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94280" y="4290120"/>
            <a:ext cx="24512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57340-2EE3-4455-B42B-189FF24A3B44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B3E9F2-ACAF-4A25-90B2-5CFDC6408615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745920" y="1938240"/>
            <a:ext cx="761364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5E2CD3-3946-4A05-8438-9B95E1A48395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761364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0A8876-20F6-46DF-B080-059EE2DF895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1520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240" y="1938240"/>
            <a:ext cx="371520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4FE00F-E63D-46CA-A15D-5B6031123776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1520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47240" y="1938240"/>
            <a:ext cx="371520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473F39-3C97-4FAA-8BC1-500D33009935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EA48E8-4637-4F3F-A730-6AC20C27BFBA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71400" y="635040"/>
            <a:ext cx="7785360" cy="52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208E9D-D391-4119-B548-68E4A66EC291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47240" y="1938240"/>
            <a:ext cx="371520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745920" y="429012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EF5E56-957D-4820-99E8-83A1EA12E71E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1520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47240" y="193824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47240" y="429012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5C9E99-8D25-4F77-B837-0647FFCB8213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47240" y="193824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745920" y="4290120"/>
            <a:ext cx="76136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DC24AF-BA3C-4BB2-801F-058403636E47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76136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745920" y="4290120"/>
            <a:ext cx="76136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13B073-9CB8-4DBB-B52A-0D8B1CC3FDA6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47240" y="193824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745920" y="429012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47240" y="429012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F42F9F-3C20-4706-B498-FABB1F272F1C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24512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320280" y="1938240"/>
            <a:ext cx="24512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894280" y="1938240"/>
            <a:ext cx="24512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745920" y="4290120"/>
            <a:ext cx="24512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320280" y="4290120"/>
            <a:ext cx="24512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894280" y="4290120"/>
            <a:ext cx="24512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1A0A9C-6670-4640-97EB-0ACBF3B5E58A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78B5DA-DDE2-46D0-8683-3224D3C926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DBC3F5-4C08-426E-9FD4-D6D9FE34688C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745920" y="1938240"/>
            <a:ext cx="761364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2C9DDD-0AC0-4229-80B4-DA219C14FF5F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761364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293272-49DD-4175-8112-0185ACFD40A6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1520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47240" y="1938240"/>
            <a:ext cx="371520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5D707D-29F8-4C98-8BE1-91A9688B9E3A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FFB701-1D73-4F20-BFE1-CA6B9644C729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671400" y="635040"/>
            <a:ext cx="7785360" cy="52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6D9FFD-2EDC-442A-9BF6-D08E56C79862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47240" y="1938240"/>
            <a:ext cx="371520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745920" y="429012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D13E77-7F61-4785-8B1A-BC631B9DCD87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1520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47240" y="193824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47240" y="429012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BE8C90-C3DE-450D-A5DA-BD21462B0B40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47240" y="193824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745920" y="4290120"/>
            <a:ext cx="76136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CD2DAB-CACE-4C8A-A2C5-2DC5AB5C4E25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76136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745920" y="4290120"/>
            <a:ext cx="76136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687DCD-655E-4208-9BF3-BB565EE8AE52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47240" y="193824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745920" y="429012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47240" y="429012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1AF541-30CE-4FEE-9A4B-31130BACDE2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71400" y="635040"/>
            <a:ext cx="7785360" cy="52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51DEE3-AFC0-42D2-ADE7-5E7C05C7EC8E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24512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320280" y="1938240"/>
            <a:ext cx="24512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894280" y="1938240"/>
            <a:ext cx="24512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745920" y="4290120"/>
            <a:ext cx="24512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320280" y="4290120"/>
            <a:ext cx="24512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894280" y="4290120"/>
            <a:ext cx="24512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CB5449-765B-4741-8456-4A189E295986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AA848-F794-449D-A7B7-B2F36BA8A06E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745920" y="1938240"/>
            <a:ext cx="761364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EB9F9-CA62-4E9F-A3F5-B73C10636EBA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761364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2079A-0446-4624-A11C-68F736E6703F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1520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47240" y="1938240"/>
            <a:ext cx="371520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F2064-6537-4430-A857-9B7DC908EAA4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FFC5D-F40B-43DA-9773-D175F0807DCA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671400" y="635040"/>
            <a:ext cx="7785360" cy="52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0ED56-327C-4197-8AB0-BD402D3A7F8B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47240" y="1938240"/>
            <a:ext cx="371520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745920" y="429012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B9D10-1CD9-4616-9825-49131AD6FF51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1520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47240" y="193824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47240" y="429012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E424C-2EF9-4F97-AA96-CD599C6F9487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47240" y="193824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745920" y="4290120"/>
            <a:ext cx="76136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62DBE-1FBC-4DF3-B578-370BC8428E9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47240" y="1938240"/>
            <a:ext cx="371520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745920" y="429012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6B8022-221C-4A4B-B425-DFD56E04E357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76136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745920" y="4290120"/>
            <a:ext cx="76136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73D28-1D9F-4703-95BC-5D2C09327E63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47240" y="193824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745920" y="429012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47240" y="429012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667B8-5500-47E2-ABAC-81BA2F279231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24512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320280" y="1938240"/>
            <a:ext cx="24512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894280" y="1938240"/>
            <a:ext cx="24512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745920" y="4290120"/>
            <a:ext cx="24512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320280" y="4290120"/>
            <a:ext cx="24512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894280" y="4290120"/>
            <a:ext cx="24512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A31A2-6266-4EF7-9F7E-9840DF7D7F57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70D289B-16F4-4995-9008-5FA7678750B1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745920" y="1938240"/>
            <a:ext cx="761364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011C517-B12E-4710-B47D-4DB171DCD4A6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761364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EA73D6F-EAE9-4D3F-90DF-067DF741DF4D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1520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47240" y="1938240"/>
            <a:ext cx="371520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0FC1F06-81B0-453C-8BB1-7A1E97C23486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0B0FA30-28C7-45DC-BC85-42CE5935EA56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671400" y="635040"/>
            <a:ext cx="7785360" cy="52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3D08F73-BA30-467C-B81C-B3E799B5F8FF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47240" y="1938240"/>
            <a:ext cx="371520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745920" y="429012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2AC9647-0F3D-4A13-9345-F8CD71DF62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1520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47240" y="193824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47240" y="429012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1C4E3E-BC25-4B2F-A710-D441B489EFFA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1520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47240" y="193824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647240" y="429012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8C1162F-A6BC-4118-A53F-C05A4BE13508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47240" y="193824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745920" y="4290120"/>
            <a:ext cx="76136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0C6A8BB-ECE4-427B-A77E-EDCE416E9565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76136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745920" y="4290120"/>
            <a:ext cx="76136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C942209-76AD-49AB-B447-45EB19CD9CDF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47240" y="193824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745920" y="429012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647240" y="429012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B9E07A1-C6F4-43C5-891E-4B8B1E718042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24512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3320280" y="1938240"/>
            <a:ext cx="24512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894280" y="1938240"/>
            <a:ext cx="24512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745920" y="4290120"/>
            <a:ext cx="24512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3320280" y="4290120"/>
            <a:ext cx="24512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894280" y="4290120"/>
            <a:ext cx="24512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591759A-1D7B-498B-8980-B71A99F371B4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745920" y="1938240"/>
            <a:ext cx="761364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761364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1520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47240" y="1938240"/>
            <a:ext cx="371520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47240" y="193824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745920" y="4290120"/>
            <a:ext cx="76136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4E2C7D-BD0F-4E77-8B27-1D0F59E0988C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671400" y="635040"/>
            <a:ext cx="7785360" cy="52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47240" y="1938240"/>
            <a:ext cx="371520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745920" y="429012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1520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47240" y="193824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47240" y="429012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47240" y="193824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745920" y="4290120"/>
            <a:ext cx="76136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76136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745920" y="4290120"/>
            <a:ext cx="76136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47240" y="193824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745920" y="429012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47240" y="429012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24512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320280" y="1938240"/>
            <a:ext cx="24512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5894280" y="1938240"/>
            <a:ext cx="24512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745920" y="4290120"/>
            <a:ext cx="24512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320280" y="4290120"/>
            <a:ext cx="24512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5894280" y="4290120"/>
            <a:ext cx="24512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1"/>
          <p:cNvSpPr/>
          <p:nvPr/>
        </p:nvSpPr>
        <p:spPr>
          <a:xfrm>
            <a:off x="8763120" y="0"/>
            <a:ext cx="144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29680" cy="11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742968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8786880" y="268200"/>
            <a:ext cx="199872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Text Box 5"/>
          <p:cNvSpPr/>
          <p:nvPr/>
        </p:nvSpPr>
        <p:spPr>
          <a:xfrm rot="5400000">
            <a:off x="702792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Line 6"/>
          <p:cNvSpPr/>
          <p:nvPr/>
        </p:nvSpPr>
        <p:spPr>
          <a:xfrm>
            <a:off x="76320" y="0"/>
            <a:ext cx="144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Line 7"/>
          <p:cNvSpPr/>
          <p:nvPr/>
        </p:nvSpPr>
        <p:spPr>
          <a:xfrm>
            <a:off x="8991720" y="0"/>
            <a:ext cx="144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Rectangle 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Line 9"/>
          <p:cNvSpPr/>
          <p:nvPr/>
        </p:nvSpPr>
        <p:spPr>
          <a:xfrm>
            <a:off x="8915400" y="0"/>
            <a:ext cx="144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Oval 1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sldNum" idx="1"/>
          </p:nvPr>
        </p:nvSpPr>
        <p:spPr>
          <a:xfrm>
            <a:off x="8129520" y="5734080"/>
            <a:ext cx="571680" cy="48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  <a:ea typeface="Arial Unicode MS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7B70EA0-F614-498F-817B-0231E48F9943}" type="slidenum">
              <a:rPr b="1" lang="ru-RU" sz="1400" spc="-1" strike="noStrike">
                <a:solidFill>
                  <a:srgbClr val="ffffff"/>
                </a:solidFill>
                <a:latin typeface="Century Schoolbook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Rectangle 2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Line 5"/>
          <p:cNvSpPr/>
          <p:nvPr/>
        </p:nvSpPr>
        <p:spPr>
          <a:xfrm>
            <a:off x="106200" y="0"/>
            <a:ext cx="180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Line 6"/>
          <p:cNvSpPr/>
          <p:nvPr/>
        </p:nvSpPr>
        <p:spPr>
          <a:xfrm>
            <a:off x="914400" y="0"/>
            <a:ext cx="1440" cy="6858000"/>
          </a:xfrm>
          <a:prstGeom prst="line">
            <a:avLst/>
          </a:prstGeom>
          <a:ln w="57240">
            <a:solidFill>
              <a:srgbClr val="ffe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Line 7"/>
          <p:cNvSpPr/>
          <p:nvPr/>
        </p:nvSpPr>
        <p:spPr>
          <a:xfrm>
            <a:off x="853920" y="0"/>
            <a:ext cx="180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Line 8"/>
          <p:cNvSpPr/>
          <p:nvPr/>
        </p:nvSpPr>
        <p:spPr>
          <a:xfrm>
            <a:off x="1727280" y="0"/>
            <a:ext cx="1440" cy="6858000"/>
          </a:xfrm>
          <a:prstGeom prst="line">
            <a:avLst/>
          </a:prstGeom>
          <a:ln w="284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Line 9"/>
          <p:cNvSpPr/>
          <p:nvPr/>
        </p:nvSpPr>
        <p:spPr>
          <a:xfrm>
            <a:off x="1066680" y="0"/>
            <a:ext cx="180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Line 10"/>
          <p:cNvSpPr/>
          <p:nvPr/>
        </p:nvSpPr>
        <p:spPr>
          <a:xfrm>
            <a:off x="9113760" y="0"/>
            <a:ext cx="180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Rectangle 11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Oval 12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Oval 13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Oval 14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Oval 15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Oval 16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29680" cy="11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742968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Text Box 19"/>
          <p:cNvSpPr/>
          <p:nvPr/>
        </p:nvSpPr>
        <p:spPr>
          <a:xfrm>
            <a:off x="9097920" y="222120"/>
            <a:ext cx="22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Text Box 20"/>
          <p:cNvSpPr/>
          <p:nvPr/>
        </p:nvSpPr>
        <p:spPr>
          <a:xfrm rot="5400000">
            <a:off x="71146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2"/>
          </p:nvPr>
        </p:nvSpPr>
        <p:spPr>
          <a:xfrm>
            <a:off x="1325520" y="4929120"/>
            <a:ext cx="57168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E8C5A31-0083-4C0B-8E10-DFBE59909402}" type="slidenum">
              <a:rPr b="1" lang="ru-RU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Line 1"/>
          <p:cNvSpPr/>
          <p:nvPr/>
        </p:nvSpPr>
        <p:spPr>
          <a:xfrm>
            <a:off x="8763120" y="0"/>
            <a:ext cx="144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Line 2"/>
          <p:cNvSpPr/>
          <p:nvPr/>
        </p:nvSpPr>
        <p:spPr>
          <a:xfrm>
            <a:off x="76320" y="0"/>
            <a:ext cx="144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Line 3"/>
          <p:cNvSpPr/>
          <p:nvPr/>
        </p:nvSpPr>
        <p:spPr>
          <a:xfrm>
            <a:off x="8991720" y="0"/>
            <a:ext cx="144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Line 5"/>
          <p:cNvSpPr/>
          <p:nvPr/>
        </p:nvSpPr>
        <p:spPr>
          <a:xfrm>
            <a:off x="8915400" y="0"/>
            <a:ext cx="144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Oval 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29680" cy="11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742968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Text Box 9"/>
          <p:cNvSpPr/>
          <p:nvPr/>
        </p:nvSpPr>
        <p:spPr>
          <a:xfrm>
            <a:off x="8786880" y="268200"/>
            <a:ext cx="199872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571680" cy="48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A232D90-E318-48A7-A5CD-FCB60B69E68C}" type="slidenum">
              <a:rPr b="1" lang="ru-RU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11"/>
          <p:cNvSpPr/>
          <p:nvPr/>
        </p:nvSpPr>
        <p:spPr>
          <a:xfrm rot="5400000">
            <a:off x="702792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Rectangle 2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Rectangle 3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Rectangle 4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Line 5"/>
          <p:cNvSpPr/>
          <p:nvPr/>
        </p:nvSpPr>
        <p:spPr>
          <a:xfrm>
            <a:off x="106200" y="0"/>
            <a:ext cx="180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Line 6"/>
          <p:cNvSpPr/>
          <p:nvPr/>
        </p:nvSpPr>
        <p:spPr>
          <a:xfrm>
            <a:off x="914400" y="0"/>
            <a:ext cx="1440" cy="6858000"/>
          </a:xfrm>
          <a:prstGeom prst="line">
            <a:avLst/>
          </a:prstGeom>
          <a:ln w="57240">
            <a:solidFill>
              <a:srgbClr val="ffe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Line 7"/>
          <p:cNvSpPr/>
          <p:nvPr/>
        </p:nvSpPr>
        <p:spPr>
          <a:xfrm>
            <a:off x="853920" y="0"/>
            <a:ext cx="180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Line 8"/>
          <p:cNvSpPr/>
          <p:nvPr/>
        </p:nvSpPr>
        <p:spPr>
          <a:xfrm>
            <a:off x="1727280" y="0"/>
            <a:ext cx="1440" cy="6858000"/>
          </a:xfrm>
          <a:prstGeom prst="line">
            <a:avLst/>
          </a:prstGeom>
          <a:ln w="284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066680" y="0"/>
            <a:ext cx="180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Rectangle 10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Oval 11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Oval 12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Oval 13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Oval 14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Oval 15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Line 16"/>
          <p:cNvSpPr/>
          <p:nvPr/>
        </p:nvSpPr>
        <p:spPr>
          <a:xfrm>
            <a:off x="9097920" y="0"/>
            <a:ext cx="180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29680" cy="11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742968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Text Box 19"/>
          <p:cNvSpPr/>
          <p:nvPr/>
        </p:nvSpPr>
        <p:spPr>
          <a:xfrm>
            <a:off x="9096480" y="217440"/>
            <a:ext cx="227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Text Box 20"/>
          <p:cNvSpPr/>
          <p:nvPr/>
        </p:nvSpPr>
        <p:spPr>
          <a:xfrm rot="5400000">
            <a:off x="71146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sldNum" idx="4"/>
          </p:nvPr>
        </p:nvSpPr>
        <p:spPr>
          <a:xfrm>
            <a:off x="1339560" y="4929120"/>
            <a:ext cx="57132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243E8A8-AE69-46E0-A298-84AC03638CCA}" type="slidenum">
              <a:rPr b="1" lang="ru-RU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Line 1"/>
          <p:cNvSpPr/>
          <p:nvPr/>
        </p:nvSpPr>
        <p:spPr>
          <a:xfrm>
            <a:off x="8763120" y="0"/>
            <a:ext cx="144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Line 2"/>
          <p:cNvSpPr/>
          <p:nvPr/>
        </p:nvSpPr>
        <p:spPr>
          <a:xfrm>
            <a:off x="76320" y="0"/>
            <a:ext cx="144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Line 3"/>
          <p:cNvSpPr/>
          <p:nvPr/>
        </p:nvSpPr>
        <p:spPr>
          <a:xfrm>
            <a:off x="8991720" y="0"/>
            <a:ext cx="144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Rectangle 4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Line 5"/>
          <p:cNvSpPr/>
          <p:nvPr/>
        </p:nvSpPr>
        <p:spPr>
          <a:xfrm>
            <a:off x="8915400" y="0"/>
            <a:ext cx="144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Oval 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29680" cy="11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742968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Text Box 9"/>
          <p:cNvSpPr/>
          <p:nvPr/>
        </p:nvSpPr>
        <p:spPr>
          <a:xfrm>
            <a:off x="8786880" y="268200"/>
            <a:ext cx="199872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sldNum" idx="5"/>
          </p:nvPr>
        </p:nvSpPr>
        <p:spPr>
          <a:xfrm>
            <a:off x="8129520" y="5734080"/>
            <a:ext cx="571680" cy="48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187F2B3-EF44-4073-BB57-81230C00A52F}" type="slidenum">
              <a:rPr b="1" lang="ru-RU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11"/>
          <p:cNvSpPr/>
          <p:nvPr/>
        </p:nvSpPr>
        <p:spPr>
          <a:xfrm rot="5400000">
            <a:off x="702792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Line 1"/>
          <p:cNvSpPr/>
          <p:nvPr/>
        </p:nvSpPr>
        <p:spPr>
          <a:xfrm>
            <a:off x="8763120" y="0"/>
            <a:ext cx="144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Line 2"/>
          <p:cNvSpPr/>
          <p:nvPr/>
        </p:nvSpPr>
        <p:spPr>
          <a:xfrm>
            <a:off x="6248520" y="0"/>
            <a:ext cx="144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Line 3"/>
          <p:cNvSpPr/>
          <p:nvPr/>
        </p:nvSpPr>
        <p:spPr>
          <a:xfrm>
            <a:off x="6192720" y="0"/>
            <a:ext cx="180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Line 4"/>
          <p:cNvSpPr/>
          <p:nvPr/>
        </p:nvSpPr>
        <p:spPr>
          <a:xfrm>
            <a:off x="8991720" y="0"/>
            <a:ext cx="144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Rectangle 5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Line 6"/>
          <p:cNvSpPr/>
          <p:nvPr/>
        </p:nvSpPr>
        <p:spPr>
          <a:xfrm>
            <a:off x="8915400" y="0"/>
            <a:ext cx="144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Oval 7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29680" cy="11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742968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Text Box 10"/>
          <p:cNvSpPr/>
          <p:nvPr/>
        </p:nvSpPr>
        <p:spPr>
          <a:xfrm>
            <a:off x="8786880" y="268200"/>
            <a:ext cx="199872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sldNum" idx="6"/>
          </p:nvPr>
        </p:nvSpPr>
        <p:spPr>
          <a:xfrm>
            <a:off x="8129520" y="5734080"/>
            <a:ext cx="571680" cy="48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C57B60C-0521-403B-9FE1-D5179D2FC5AE}" type="slidenum">
              <a:rPr b="1" lang="ru-RU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Text Box 12"/>
          <p:cNvSpPr/>
          <p:nvPr/>
        </p:nvSpPr>
        <p:spPr>
          <a:xfrm rot="5400000">
            <a:off x="702792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Line 1"/>
          <p:cNvSpPr/>
          <p:nvPr/>
        </p:nvSpPr>
        <p:spPr>
          <a:xfrm>
            <a:off x="8763120" y="0"/>
            <a:ext cx="144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Oval 2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Line 3"/>
          <p:cNvSpPr/>
          <p:nvPr/>
        </p:nvSpPr>
        <p:spPr>
          <a:xfrm>
            <a:off x="8991720" y="0"/>
            <a:ext cx="144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Rectangle 4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Line 5"/>
          <p:cNvSpPr/>
          <p:nvPr/>
        </p:nvSpPr>
        <p:spPr>
          <a:xfrm>
            <a:off x="8915400" y="0"/>
            <a:ext cx="144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Line 6"/>
          <p:cNvSpPr/>
          <p:nvPr/>
        </p:nvSpPr>
        <p:spPr>
          <a:xfrm>
            <a:off x="6248520" y="0"/>
            <a:ext cx="144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Line 7"/>
          <p:cNvSpPr/>
          <p:nvPr/>
        </p:nvSpPr>
        <p:spPr>
          <a:xfrm>
            <a:off x="6192720" y="0"/>
            <a:ext cx="180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29680" cy="11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742968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Text Box 10"/>
          <p:cNvSpPr/>
          <p:nvPr/>
        </p:nvSpPr>
        <p:spPr>
          <a:xfrm>
            <a:off x="8786880" y="268200"/>
            <a:ext cx="199872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sldNum" idx="7"/>
          </p:nvPr>
        </p:nvSpPr>
        <p:spPr>
          <a:xfrm>
            <a:off x="8129520" y="5734080"/>
            <a:ext cx="571680" cy="48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BB72893-834D-4C0F-9388-7FDE6E6342C0}" type="slidenum">
              <a:rPr b="1" lang="ru-RU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Text Box 12"/>
          <p:cNvSpPr/>
          <p:nvPr/>
        </p:nvSpPr>
        <p:spPr>
          <a:xfrm rot="5400000">
            <a:off x="702792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4000" spc="-1" strike="noStrike">
                <a:solidFill>
                  <a:srgbClr val="99284c"/>
                </a:solidFill>
                <a:latin typeface="Arial"/>
              </a:rPr>
              <a:t>Click to edit the title text format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45920" y="1938240"/>
            <a:ext cx="761364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Text Box 1"/>
          <p:cNvSpPr/>
          <p:nvPr/>
        </p:nvSpPr>
        <p:spPr>
          <a:xfrm>
            <a:off x="539640" y="642960"/>
            <a:ext cx="79200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Schoolbook"/>
                <a:ea typeface="Arial Unicode MS"/>
              </a:rPr>
              <a:t>ПРОЕКТ НА ТЕМУ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Schoolbook"/>
                <a:ea typeface="Arial Unicode MS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entury Schoolbook"/>
                <a:ea typeface="Arial Unicode MS"/>
              </a:rPr>
              <a:t>«НЕГАТИВНОЕ ВЛИЯНИЕ ШУМА НА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entury Schoolbook"/>
                <a:ea typeface="Arial Unicode MS"/>
              </a:rPr>
              <a:t>ЗДОРОВЬЕ ЧЕЛОВЕКА»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Text Box 2"/>
          <p:cNvSpPr/>
          <p:nvPr/>
        </p:nvSpPr>
        <p:spPr>
          <a:xfrm>
            <a:off x="4859280" y="3240000"/>
            <a:ext cx="360036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3668c4"/>
                </a:solidFill>
                <a:latin typeface="Times New Roman"/>
                <a:ea typeface="Arial Unicode MS"/>
              </a:rPr>
              <a:t>Выполнили :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3668c4"/>
                </a:solidFill>
                <a:latin typeface="Arial"/>
                <a:ea typeface="Arial Unicode MS"/>
              </a:rPr>
              <a:t>Иноземцева Т.Н.МОУ «СОШ № 103» г.Саратов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3668c4"/>
                </a:solidFill>
                <a:latin typeface="Arial"/>
                <a:ea typeface="Arial Unicode MS"/>
              </a:rPr>
              <a:t>Фролова Н.А.МОУ «СОШ № 103» г.Саратов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92" name="Picture 3" descr=""/>
          <p:cNvPicPr/>
          <p:nvPr/>
        </p:nvPicPr>
        <p:blipFill>
          <a:blip r:embed="rId1"/>
          <a:stretch/>
        </p:blipFill>
        <p:spPr>
          <a:xfrm>
            <a:off x="-360360" y="8810640"/>
            <a:ext cx="2801880" cy="144936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4" descr=""/>
          <p:cNvPicPr/>
          <p:nvPr/>
        </p:nvPicPr>
        <p:blipFill>
          <a:blip r:embed="rId2"/>
          <a:stretch/>
        </p:blipFill>
        <p:spPr>
          <a:xfrm>
            <a:off x="574560" y="2824200"/>
            <a:ext cx="4286520" cy="329544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Picture 1" descr=""/>
          <p:cNvPicPr/>
          <p:nvPr/>
        </p:nvPicPr>
        <p:blipFill>
          <a:blip r:embed="rId1"/>
          <a:stretch/>
        </p:blipFill>
        <p:spPr>
          <a:xfrm>
            <a:off x="5759280" y="711360"/>
            <a:ext cx="2802240" cy="1449360"/>
          </a:xfrm>
          <a:prstGeom prst="rect">
            <a:avLst/>
          </a:prstGeom>
          <a:ln w="0">
            <a:noFill/>
          </a:ln>
        </p:spPr>
      </p:pic>
      <p:sp>
        <p:nvSpPr>
          <p:cNvPr id="425" name="Text Box 2"/>
          <p:cNvSpPr/>
          <p:nvPr/>
        </p:nvSpPr>
        <p:spPr>
          <a:xfrm>
            <a:off x="452520" y="314280"/>
            <a:ext cx="7467480" cy="16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575f6d"/>
                </a:solidFill>
                <a:latin typeface="Century Schoolbook"/>
                <a:ea typeface="Arial Unicode MS"/>
              </a:rPr>
              <a:t>Рекомендации </a:t>
            </a:r>
            <a:br>
              <a:rPr sz="2600"/>
            </a:br>
            <a:r>
              <a:rPr b="1" lang="ru-RU" sz="2600" spc="-1" strike="noStrike">
                <a:solidFill>
                  <a:srgbClr val="575f6d"/>
                </a:solidFill>
                <a:latin typeface="Century Schoolbook"/>
                <a:ea typeface="Arial Unicode MS"/>
              </a:rPr>
              <a:t>по ослаблению негативного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575f6d"/>
                </a:solidFill>
                <a:latin typeface="Century Schoolbook"/>
                <a:ea typeface="Arial Unicode MS"/>
              </a:rPr>
              <a:t>влияния шума на организм человека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" name="Text Box 3"/>
          <p:cNvSpPr/>
          <p:nvPr/>
        </p:nvSpPr>
        <p:spPr>
          <a:xfrm>
            <a:off x="457200" y="1979640"/>
            <a:ext cx="7467480" cy="449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93560" indent="-4935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93560"/>
                <a:tab algn="l" pos="941400"/>
                <a:tab algn="l" pos="1390680"/>
                <a:tab algn="l" pos="1839960"/>
                <a:tab algn="l" pos="2289240"/>
                <a:tab algn="l" pos="2738520"/>
                <a:tab algn="l" pos="3187800"/>
                <a:tab algn="l" pos="3637080"/>
                <a:tab algn="l" pos="4086360"/>
                <a:tab algn="l" pos="4535640"/>
                <a:tab algn="l" pos="4984920"/>
                <a:tab algn="l" pos="5433840"/>
                <a:tab algn="l" pos="5883120"/>
                <a:tab algn="l" pos="6332400"/>
                <a:tab algn="l" pos="6781680"/>
                <a:tab algn="l" pos="7230960"/>
                <a:tab algn="l" pos="7680240"/>
                <a:tab algn="l" pos="8129520"/>
                <a:tab algn="l" pos="8578800"/>
                <a:tab algn="l" pos="9028080"/>
                <a:tab algn="l" pos="947736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Ограничить ежедневное прослушивание громкой музыки, телевизионных передач, работу за компьютером 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93560" indent="-4935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93560"/>
                <a:tab algn="l" pos="941400"/>
                <a:tab algn="l" pos="1390680"/>
                <a:tab algn="l" pos="1839960"/>
                <a:tab algn="l" pos="2289240"/>
                <a:tab algn="l" pos="2738520"/>
                <a:tab algn="l" pos="3187800"/>
                <a:tab algn="l" pos="3637080"/>
                <a:tab algn="l" pos="4086360"/>
                <a:tab algn="l" pos="4535640"/>
                <a:tab algn="l" pos="4984920"/>
                <a:tab algn="l" pos="5433840"/>
                <a:tab algn="l" pos="5883120"/>
                <a:tab algn="l" pos="6332400"/>
                <a:tab algn="l" pos="6781680"/>
                <a:tab algn="l" pos="7230960"/>
                <a:tab algn="l" pos="7680240"/>
                <a:tab algn="l" pos="8129520"/>
                <a:tab algn="l" pos="8578800"/>
                <a:tab algn="l" pos="9028080"/>
                <a:tab algn="l" pos="947736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При выполнении шумной работы, через каждый час делать 10 минутный</a:t>
            </a:r>
            <a:r>
              <a:rPr b="0" lang="ru-RU" sz="18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	</a:t>
            </a:r>
            <a:r>
              <a:rPr b="0" lang="ru-RU" sz="18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 перерыв или прослушивать успокаивающую музыку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93560" indent="-4935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93560"/>
                <a:tab algn="l" pos="941400"/>
                <a:tab algn="l" pos="1390680"/>
                <a:tab algn="l" pos="1839960"/>
                <a:tab algn="l" pos="2289240"/>
                <a:tab algn="l" pos="2738520"/>
                <a:tab algn="l" pos="3187800"/>
                <a:tab algn="l" pos="3637080"/>
                <a:tab algn="l" pos="4086360"/>
                <a:tab algn="l" pos="4535640"/>
                <a:tab algn="l" pos="4984920"/>
                <a:tab algn="l" pos="5433840"/>
                <a:tab algn="l" pos="5883120"/>
                <a:tab algn="l" pos="6332400"/>
                <a:tab algn="l" pos="6781680"/>
                <a:tab algn="l" pos="7230960"/>
                <a:tab algn="l" pos="7680240"/>
                <a:tab algn="l" pos="8129520"/>
                <a:tab algn="l" pos="8578800"/>
                <a:tab algn="l" pos="9028080"/>
                <a:tab algn="l" pos="947736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Следить за разговорной речью: не кричать, не повышать голос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93560" indent="-4935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93560"/>
                <a:tab algn="l" pos="941400"/>
                <a:tab algn="l" pos="1390680"/>
                <a:tab algn="l" pos="1839960"/>
                <a:tab algn="l" pos="2289240"/>
                <a:tab algn="l" pos="2738520"/>
                <a:tab algn="l" pos="3187800"/>
                <a:tab algn="l" pos="3637080"/>
                <a:tab algn="l" pos="4086360"/>
                <a:tab algn="l" pos="4535640"/>
                <a:tab algn="l" pos="4984920"/>
                <a:tab algn="l" pos="5433840"/>
                <a:tab algn="l" pos="5883120"/>
                <a:tab algn="l" pos="6332400"/>
                <a:tab algn="l" pos="6781680"/>
                <a:tab algn="l" pos="7230960"/>
                <a:tab algn="l" pos="7680240"/>
                <a:tab algn="l" pos="8129520"/>
                <a:tab algn="l" pos="8578800"/>
                <a:tab algn="l" pos="9028080"/>
                <a:tab algn="l" pos="947736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Регулярное медицинское обследование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93560" indent="-4935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93560"/>
                <a:tab algn="l" pos="941400"/>
                <a:tab algn="l" pos="1390680"/>
                <a:tab algn="l" pos="1839960"/>
                <a:tab algn="l" pos="2289240"/>
                <a:tab algn="l" pos="2738520"/>
                <a:tab algn="l" pos="3187800"/>
                <a:tab algn="l" pos="3637080"/>
                <a:tab algn="l" pos="4086360"/>
                <a:tab algn="l" pos="4535640"/>
                <a:tab algn="l" pos="4984920"/>
                <a:tab algn="l" pos="5433840"/>
                <a:tab algn="l" pos="5883120"/>
                <a:tab algn="l" pos="6332400"/>
                <a:tab algn="l" pos="6781680"/>
                <a:tab algn="l" pos="7230960"/>
                <a:tab algn="l" pos="7680240"/>
                <a:tab algn="l" pos="8129520"/>
                <a:tab algn="l" pos="8578800"/>
                <a:tab algn="l" pos="9028080"/>
                <a:tab algn="l" pos="947736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Посадка деревьев вокруг зданий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93560" indent="-4935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93560"/>
                <a:tab algn="l" pos="941400"/>
                <a:tab algn="l" pos="1390680"/>
                <a:tab algn="l" pos="1839960"/>
                <a:tab algn="l" pos="2289240"/>
                <a:tab algn="l" pos="2738520"/>
                <a:tab algn="l" pos="3187800"/>
                <a:tab algn="l" pos="3637080"/>
                <a:tab algn="l" pos="4086360"/>
                <a:tab algn="l" pos="4535640"/>
                <a:tab algn="l" pos="4984920"/>
                <a:tab algn="l" pos="5433840"/>
                <a:tab algn="l" pos="5883120"/>
                <a:tab algn="l" pos="6332400"/>
                <a:tab algn="l" pos="6781680"/>
                <a:tab algn="l" pos="7230960"/>
                <a:tab algn="l" pos="7680240"/>
                <a:tab algn="l" pos="8129520"/>
                <a:tab algn="l" pos="8578800"/>
                <a:tab algn="l" pos="9028080"/>
                <a:tab algn="l" pos="947736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Предпочтение отдавать отдыху на природе, а не дискотеке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93560" indent="-4935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93560"/>
                <a:tab algn="l" pos="941400"/>
                <a:tab algn="l" pos="1390680"/>
                <a:tab algn="l" pos="1839960"/>
                <a:tab algn="l" pos="2289240"/>
                <a:tab algn="l" pos="2738520"/>
                <a:tab algn="l" pos="3187800"/>
                <a:tab algn="l" pos="3637080"/>
                <a:tab algn="l" pos="4086360"/>
                <a:tab algn="l" pos="4535640"/>
                <a:tab algn="l" pos="4984920"/>
                <a:tab algn="l" pos="5433840"/>
                <a:tab algn="l" pos="5883120"/>
                <a:tab algn="l" pos="6332400"/>
                <a:tab algn="l" pos="6781680"/>
                <a:tab algn="l" pos="7230960"/>
                <a:tab algn="l" pos="7680240"/>
                <a:tab algn="l" pos="8129520"/>
                <a:tab algn="l" pos="8578800"/>
                <a:tab algn="l" pos="9028080"/>
                <a:tab algn="l" pos="947736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Применение средств  защиты от шума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93560" indent="-4935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93560"/>
                <a:tab algn="l" pos="941400"/>
                <a:tab algn="l" pos="1390680"/>
                <a:tab algn="l" pos="1839960"/>
                <a:tab algn="l" pos="2289240"/>
                <a:tab algn="l" pos="2738520"/>
                <a:tab algn="l" pos="3187800"/>
                <a:tab algn="l" pos="3637080"/>
                <a:tab algn="l" pos="4086360"/>
                <a:tab algn="l" pos="4535640"/>
                <a:tab algn="l" pos="4984920"/>
                <a:tab algn="l" pos="5433840"/>
                <a:tab algn="l" pos="5883120"/>
                <a:tab algn="l" pos="6332400"/>
                <a:tab algn="l" pos="6781680"/>
                <a:tab algn="l" pos="7230960"/>
                <a:tab algn="l" pos="7680240"/>
                <a:tab algn="l" pos="8129520"/>
                <a:tab algn="l" pos="8578800"/>
                <a:tab algn="l" pos="9028080"/>
                <a:tab algn="l" pos="947736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        </a:t>
            </a:r>
            <a:r>
              <a:rPr b="0" lang="ru-RU" sz="18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наушники из шумоизолирующих материалов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93560" indent="-4935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93560"/>
                <a:tab algn="l" pos="941400"/>
                <a:tab algn="l" pos="1390680"/>
                <a:tab algn="l" pos="1839960"/>
                <a:tab algn="l" pos="2289240"/>
                <a:tab algn="l" pos="2738520"/>
                <a:tab algn="l" pos="3187800"/>
                <a:tab algn="l" pos="3637080"/>
                <a:tab algn="l" pos="4086360"/>
                <a:tab algn="l" pos="4535640"/>
                <a:tab algn="l" pos="4984920"/>
                <a:tab algn="l" pos="5433840"/>
                <a:tab algn="l" pos="5883120"/>
                <a:tab algn="l" pos="6332400"/>
                <a:tab algn="l" pos="6781680"/>
                <a:tab algn="l" pos="7230960"/>
                <a:tab algn="l" pos="7680240"/>
                <a:tab algn="l" pos="8129520"/>
                <a:tab algn="l" pos="8578800"/>
                <a:tab algn="l" pos="9028080"/>
                <a:tab algn="l" pos="947736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        </a:t>
            </a:r>
            <a:r>
              <a:rPr b="0" lang="ru-RU" sz="18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противошумные вкладыши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93560" indent="-493560">
              <a:lnSpc>
                <a:spcPct val="80000"/>
              </a:lnSpc>
              <a:spcBef>
                <a:spcPts val="601"/>
              </a:spcBef>
              <a:buClr>
                <a:srgbClr val="2300dc"/>
              </a:buClr>
              <a:buFont typeface="Wingdings" charset="2"/>
              <a:buChar char=""/>
              <a:tabLst>
                <a:tab algn="l" pos="493560"/>
                <a:tab algn="l" pos="941400"/>
                <a:tab algn="l" pos="1390680"/>
                <a:tab algn="l" pos="1839960"/>
                <a:tab algn="l" pos="2289240"/>
                <a:tab algn="l" pos="2738520"/>
                <a:tab algn="l" pos="3187800"/>
                <a:tab algn="l" pos="3637080"/>
                <a:tab algn="l" pos="4086360"/>
                <a:tab algn="l" pos="4535640"/>
                <a:tab algn="l" pos="4984920"/>
                <a:tab algn="l" pos="5433840"/>
                <a:tab algn="l" pos="5883120"/>
                <a:tab algn="l" pos="6332400"/>
                <a:tab algn="l" pos="6781680"/>
                <a:tab algn="l" pos="7230960"/>
                <a:tab algn="l" pos="7680240"/>
                <a:tab algn="l" pos="8129520"/>
                <a:tab algn="l" pos="8578800"/>
                <a:tab algn="l" pos="9028080"/>
                <a:tab algn="l" pos="947736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Информационная работа по профилактике влияния шума на здоровье обучающихся 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93560" indent="-4935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93560"/>
                <a:tab algn="l" pos="941400"/>
                <a:tab algn="l" pos="1390680"/>
                <a:tab algn="l" pos="1839960"/>
                <a:tab algn="l" pos="2289240"/>
                <a:tab algn="l" pos="2738520"/>
                <a:tab algn="l" pos="3187800"/>
                <a:tab algn="l" pos="3637080"/>
                <a:tab algn="l" pos="4086360"/>
                <a:tab algn="l" pos="4535640"/>
                <a:tab algn="l" pos="4984920"/>
                <a:tab algn="l" pos="5433840"/>
                <a:tab algn="l" pos="5883120"/>
                <a:tab algn="l" pos="6332400"/>
                <a:tab algn="l" pos="6781680"/>
                <a:tab algn="l" pos="7230960"/>
                <a:tab algn="l" pos="7680240"/>
                <a:tab algn="l" pos="8129520"/>
                <a:tab algn="l" pos="8578800"/>
                <a:tab algn="l" pos="9028080"/>
                <a:tab algn="l" pos="947736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93560" indent="-4935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93560"/>
                <a:tab algn="l" pos="941400"/>
                <a:tab algn="l" pos="1390680"/>
                <a:tab algn="l" pos="1839960"/>
                <a:tab algn="l" pos="2289240"/>
                <a:tab algn="l" pos="2738520"/>
                <a:tab algn="l" pos="3187800"/>
                <a:tab algn="l" pos="3637080"/>
                <a:tab algn="l" pos="4086360"/>
                <a:tab algn="l" pos="4535640"/>
                <a:tab algn="l" pos="4984920"/>
                <a:tab algn="l" pos="5433840"/>
                <a:tab algn="l" pos="5883120"/>
                <a:tab algn="l" pos="6332400"/>
                <a:tab algn="l" pos="6781680"/>
                <a:tab algn="l" pos="7230960"/>
                <a:tab algn="l" pos="7680240"/>
                <a:tab algn="l" pos="8129520"/>
                <a:tab algn="l" pos="8578800"/>
                <a:tab algn="l" pos="9028080"/>
                <a:tab algn="l" pos="947736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 advTm="6000"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Text Box 1"/>
          <p:cNvSpPr/>
          <p:nvPr/>
        </p:nvSpPr>
        <p:spPr>
          <a:xfrm>
            <a:off x="720720" y="720720"/>
            <a:ext cx="7380360" cy="36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entury Schoolbook"/>
                <a:ea typeface="Arial Unicode MS"/>
              </a:rPr>
              <a:t>ВЫВОДЫ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entury Schoolbook"/>
              <a:buAutoNum type="arabicPeriod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В результате ограничения прослушивания громкой музыки 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     </a:t>
            </a:r>
            <a:r>
              <a:rPr b="0" lang="ru-RU" sz="18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работы        за компьютером улучшился сон у 30% учащихся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2.  Повысилось внимание и активизировалась учебная деятельность;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3. Снизилась доля конфликтов между учащимися на 20%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4. В течение зимних каникул 60% учащихся предпочли ежедневное    катание на коньках и лыжах ежедневному сидению у компьютера и    телевизора;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5. Провели беседу о негативном влиянии шума на учеников 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    </a:t>
            </a:r>
            <a:r>
              <a:rPr b="0" lang="ru-RU" sz="18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пропагандировали здоровый образ жизни в 4 начальных классах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7. После медицинского обследования 10%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    </a:t>
            </a:r>
            <a:r>
              <a:rPr b="0" lang="ru-RU" sz="18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девятиклассников получили рекомендаци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    </a:t>
            </a:r>
            <a:r>
              <a:rPr b="0" lang="ru-RU" sz="18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по лечению и восстановлению слуха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Arial Unicode MS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28" name="Picture 2" descr=""/>
          <p:cNvPicPr/>
          <p:nvPr/>
        </p:nvPicPr>
        <p:blipFill>
          <a:blip r:embed="rId1"/>
          <a:stretch/>
        </p:blipFill>
        <p:spPr>
          <a:xfrm>
            <a:off x="6227640" y="4797360"/>
            <a:ext cx="2232000" cy="151128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Text Box 1"/>
          <p:cNvSpPr/>
          <p:nvPr/>
        </p:nvSpPr>
        <p:spPr>
          <a:xfrm>
            <a:off x="457200" y="272880"/>
            <a:ext cx="7466040" cy="11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  <a:ea typeface="Arial Unicode MS"/>
              </a:rPr>
              <a:t>ЧЕЛОВЕК !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Text Box 2"/>
          <p:cNvSpPr/>
          <p:nvPr/>
        </p:nvSpPr>
        <p:spPr>
          <a:xfrm>
            <a:off x="457200" y="1600200"/>
            <a:ext cx="7466040" cy="48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  <a:ea typeface="Arial Unicode MS"/>
              </a:rPr>
              <a:t>Здоровье, столь мало уважаемое в юных летах, делается в летах зрелости истинным благом; самое чувство жизни бывает гораздо милее тогда, когда уже пролетела ее быстрая половина.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  <a:ea typeface="Arial Unicode MS"/>
              </a:rPr>
              <a:t>                                                                     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  <a:ea typeface="Arial Unicode MS"/>
              </a:rPr>
              <a:t>Н.М.Карамзин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  <a:ea typeface="Arial Unicode MS"/>
              </a:rPr>
              <a:t>Здоровье никогда не может потерять своей цены в глазах человека, потому что и в довольстве и в роскоши плохо жить без здоровья.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  <a:ea typeface="Arial Unicode MS"/>
              </a:rPr>
              <a:t>                                                            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  <a:ea typeface="Arial Unicode MS"/>
              </a:rPr>
              <a:t>Н.Г.Чернышевский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  <a:ea typeface="Arial Unicode MS"/>
              </a:rPr>
              <a:t>Берегите уши!  Будьте здоровы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  <a:ea typeface="Arial Unicode MS"/>
              </a:rPr>
              <a:t>   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  <a:ea typeface="Arial Unicode MS"/>
              </a:rPr>
              <a:t>Удачи</a:t>
            </a:r>
            <a:r>
              <a:rPr b="0" lang="ru-RU" sz="2400" spc="-1" strike="noStrike">
                <a:solidFill>
                  <a:srgbClr val="3333cc"/>
                </a:solidFill>
                <a:latin typeface="Century Schoolbook"/>
                <a:ea typeface="Arial Unicode MS"/>
              </a:rPr>
              <a:t>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31" name="Picture 3" descr=""/>
          <p:cNvPicPr/>
          <p:nvPr/>
        </p:nvPicPr>
        <p:blipFill>
          <a:blip r:embed="rId1"/>
          <a:stretch/>
        </p:blipFill>
        <p:spPr>
          <a:xfrm>
            <a:off x="539640" y="4859280"/>
            <a:ext cx="1619280" cy="1440000"/>
          </a:xfrm>
          <a:prstGeom prst="rect">
            <a:avLst/>
          </a:prstGeom>
          <a:ln w="0">
            <a:noFill/>
          </a:ln>
        </p:spPr>
      </p:pic>
      <p:pic>
        <p:nvPicPr>
          <p:cNvPr id="432" name="Picture 4" descr=""/>
          <p:cNvPicPr/>
          <p:nvPr/>
        </p:nvPicPr>
        <p:blipFill>
          <a:blip r:embed="rId2"/>
          <a:stretch/>
        </p:blipFill>
        <p:spPr>
          <a:xfrm>
            <a:off x="6659640" y="539640"/>
            <a:ext cx="1800000" cy="144000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Text Box 1"/>
          <p:cNvSpPr/>
          <p:nvPr/>
        </p:nvSpPr>
        <p:spPr>
          <a:xfrm>
            <a:off x="457200" y="720720"/>
            <a:ext cx="74674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  <a:ea typeface="Arial Unicode MS"/>
              </a:rPr>
              <a:t>Используемая литература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Text Box 2"/>
          <p:cNvSpPr/>
          <p:nvPr/>
        </p:nvSpPr>
        <p:spPr>
          <a:xfrm>
            <a:off x="457200" y="1413000"/>
            <a:ext cx="7467480" cy="50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Font typeface="Wingdings" charset="2"/>
              <a:buChar char=""/>
              <a:tabLst>
                <a:tab algn="l" pos="235080"/>
                <a:tab algn="l" pos="682560"/>
                <a:tab algn="l" pos="1131840"/>
                <a:tab algn="l" pos="1581120"/>
                <a:tab algn="l" pos="2030400"/>
                <a:tab algn="l" pos="2479680"/>
                <a:tab algn="l" pos="2928960"/>
                <a:tab algn="l" pos="3378240"/>
                <a:tab algn="l" pos="3827520"/>
                <a:tab algn="l" pos="4276800"/>
                <a:tab algn="l" pos="4726080"/>
                <a:tab algn="l" pos="5175360"/>
                <a:tab algn="l" pos="5624640"/>
                <a:tab algn="l" pos="6073920"/>
                <a:tab algn="l" pos="6523200"/>
                <a:tab algn="l" pos="6972480"/>
                <a:tab algn="l" pos="7421400"/>
                <a:tab algn="l" pos="7870680"/>
                <a:tab algn="l" pos="8319960"/>
                <a:tab algn="l" pos="8769240"/>
                <a:tab algn="l" pos="9218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  <a:ea typeface="Arial Unicode MS"/>
              </a:rPr>
              <a:t>Использование коммуникативных средств при выполнении проектов как фактор формирования социальной компетентности педагога и учащихся. -Саратов: ИЦ «РАТА», 2009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35080" indent="-2350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Font typeface="Wingdings" charset="2"/>
              <a:buChar char=""/>
              <a:tabLst>
                <a:tab algn="l" pos="235080"/>
                <a:tab algn="l" pos="682560"/>
                <a:tab algn="l" pos="1131840"/>
                <a:tab algn="l" pos="1581120"/>
                <a:tab algn="l" pos="2030400"/>
                <a:tab algn="l" pos="2479680"/>
                <a:tab algn="l" pos="2928960"/>
                <a:tab algn="l" pos="3378240"/>
                <a:tab algn="l" pos="3827520"/>
                <a:tab algn="l" pos="4276800"/>
                <a:tab algn="l" pos="4726080"/>
                <a:tab algn="l" pos="5175360"/>
                <a:tab algn="l" pos="5624640"/>
                <a:tab algn="l" pos="6073920"/>
                <a:tab algn="l" pos="6523200"/>
                <a:tab algn="l" pos="6972480"/>
                <a:tab algn="l" pos="7421400"/>
                <a:tab algn="l" pos="7870680"/>
                <a:tab algn="l" pos="8319960"/>
                <a:tab algn="l" pos="8769240"/>
                <a:tab algn="l" pos="9218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  <a:ea typeface="Arial Unicode MS"/>
              </a:rPr>
              <a:t>ОБЖ, 9 класс, поурочное планирование.-Волгоград: Учитель,2007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35080" indent="-2350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Font typeface="Wingdings" charset="2"/>
              <a:buChar char=""/>
              <a:tabLst>
                <a:tab algn="l" pos="235080"/>
                <a:tab algn="l" pos="682560"/>
                <a:tab algn="l" pos="1131840"/>
                <a:tab algn="l" pos="1581120"/>
                <a:tab algn="l" pos="2030400"/>
                <a:tab algn="l" pos="2479680"/>
                <a:tab algn="l" pos="2928960"/>
                <a:tab algn="l" pos="3378240"/>
                <a:tab algn="l" pos="3827520"/>
                <a:tab algn="l" pos="4276800"/>
                <a:tab algn="l" pos="4726080"/>
                <a:tab algn="l" pos="5175360"/>
                <a:tab algn="l" pos="5624640"/>
                <a:tab algn="l" pos="6073920"/>
                <a:tab algn="l" pos="6523200"/>
                <a:tab algn="l" pos="6972480"/>
                <a:tab algn="l" pos="7421400"/>
                <a:tab algn="l" pos="7870680"/>
                <a:tab algn="l" pos="8319960"/>
                <a:tab algn="l" pos="8769240"/>
                <a:tab algn="l" pos="9218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  <a:ea typeface="Arial Unicode MS"/>
              </a:rPr>
              <a:t>Материалы Интернет с сайта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  <a:ea typeface="Arial Unicode MS"/>
              </a:rPr>
              <a:t> mhtvl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  <a:ea typeface="Arial Unicode MS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  <a:ea typeface="Arial Unicode MS"/>
              </a:rPr>
              <a:t>file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  <a:ea typeface="Arial Unicode MS"/>
              </a:rPr>
              <a:t>://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35080" indent="-2350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Font typeface="Wingdings" charset="2"/>
              <a:buChar char=""/>
              <a:tabLst>
                <a:tab algn="l" pos="235080"/>
                <a:tab algn="l" pos="682560"/>
                <a:tab algn="l" pos="1131840"/>
                <a:tab algn="l" pos="1581120"/>
                <a:tab algn="l" pos="2030400"/>
                <a:tab algn="l" pos="2479680"/>
                <a:tab algn="l" pos="2928960"/>
                <a:tab algn="l" pos="3378240"/>
                <a:tab algn="l" pos="3827520"/>
                <a:tab algn="l" pos="4276800"/>
                <a:tab algn="l" pos="4726080"/>
                <a:tab algn="l" pos="5175360"/>
                <a:tab algn="l" pos="5624640"/>
                <a:tab algn="l" pos="6073920"/>
                <a:tab algn="l" pos="6523200"/>
                <a:tab algn="l" pos="6972480"/>
                <a:tab algn="l" pos="7421400"/>
                <a:tab algn="l" pos="7870680"/>
                <a:tab algn="l" pos="8319960"/>
                <a:tab algn="l" pos="8769240"/>
                <a:tab algn="l" pos="9218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  <a:ea typeface="Arial Unicode MS"/>
              </a:rPr>
              <a:t>Селиверстова Д.Н., Селиверстова В.В., Селиверстов В.Н.Формула здоровья.- Волгоград: Зацарицынский вестник, 1995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35080" indent="-2350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Font typeface="Wingdings" charset="2"/>
              <a:buChar char=""/>
              <a:tabLst>
                <a:tab algn="l" pos="235080"/>
                <a:tab algn="l" pos="682560"/>
                <a:tab algn="l" pos="1131840"/>
                <a:tab algn="l" pos="1581120"/>
                <a:tab algn="l" pos="2030400"/>
                <a:tab algn="l" pos="2479680"/>
                <a:tab algn="l" pos="2928960"/>
                <a:tab algn="l" pos="3378240"/>
                <a:tab algn="l" pos="3827520"/>
                <a:tab algn="l" pos="4276800"/>
                <a:tab algn="l" pos="4726080"/>
                <a:tab algn="l" pos="5175360"/>
                <a:tab algn="l" pos="5624640"/>
                <a:tab algn="l" pos="6073920"/>
                <a:tab algn="l" pos="6523200"/>
                <a:tab algn="l" pos="6972480"/>
                <a:tab algn="l" pos="7421400"/>
                <a:tab algn="l" pos="7870680"/>
                <a:tab algn="l" pos="8319960"/>
                <a:tab algn="l" pos="8769240"/>
                <a:tab algn="l" pos="9218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  <a:ea typeface="Arial Unicode MS"/>
              </a:rPr>
              <a:t>Ильичев А.А. Популярная энциклопедия для выживания подростков.-М:ЭКСМО-Пресс,2002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35080" indent="-2350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Font typeface="Wingdings" charset="2"/>
              <a:buChar char=""/>
              <a:tabLst>
                <a:tab algn="l" pos="235080"/>
                <a:tab algn="l" pos="682560"/>
                <a:tab algn="l" pos="1131840"/>
                <a:tab algn="l" pos="1581120"/>
                <a:tab algn="l" pos="2030400"/>
                <a:tab algn="l" pos="2479680"/>
                <a:tab algn="l" pos="2928960"/>
                <a:tab algn="l" pos="3378240"/>
                <a:tab algn="l" pos="3827520"/>
                <a:tab algn="l" pos="4276800"/>
                <a:tab algn="l" pos="4726080"/>
                <a:tab algn="l" pos="5175360"/>
                <a:tab algn="l" pos="5624640"/>
                <a:tab algn="l" pos="6073920"/>
                <a:tab algn="l" pos="6523200"/>
                <a:tab algn="l" pos="6972480"/>
                <a:tab algn="l" pos="7421400"/>
                <a:tab algn="l" pos="7870680"/>
                <a:tab algn="l" pos="8319960"/>
                <a:tab algn="l" pos="8769240"/>
                <a:tab algn="l" pos="9218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  <a:ea typeface="Arial Unicode MS"/>
              </a:rPr>
              <a:t>Колесов Д.В. Учебник «Биология», 8 класс,2009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35" name="Picture 3" descr=""/>
          <p:cNvPicPr/>
          <p:nvPr/>
        </p:nvPicPr>
        <p:blipFill>
          <a:blip r:embed="rId1"/>
          <a:stretch/>
        </p:blipFill>
        <p:spPr>
          <a:xfrm>
            <a:off x="6673680" y="4881600"/>
            <a:ext cx="1785960" cy="141768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strips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Text Box 1"/>
          <p:cNvSpPr/>
          <p:nvPr/>
        </p:nvSpPr>
        <p:spPr>
          <a:xfrm>
            <a:off x="671400" y="635040"/>
            <a:ext cx="7790040" cy="11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95" name="Picture 2" descr=""/>
          <p:cNvPicPr/>
          <p:nvPr/>
        </p:nvPicPr>
        <p:blipFill>
          <a:blip r:embed="rId1"/>
          <a:stretch/>
        </p:blipFill>
        <p:spPr>
          <a:xfrm>
            <a:off x="539640" y="4316400"/>
            <a:ext cx="3421080" cy="198432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3" descr=""/>
          <p:cNvPicPr/>
          <p:nvPr/>
        </p:nvPicPr>
        <p:blipFill>
          <a:blip r:embed="rId2"/>
          <a:stretch/>
        </p:blipFill>
        <p:spPr>
          <a:xfrm>
            <a:off x="539640" y="2160720"/>
            <a:ext cx="3419640" cy="1979640"/>
          </a:xfrm>
          <a:prstGeom prst="rect">
            <a:avLst/>
          </a:prstGeom>
          <a:ln w="0">
            <a:noFill/>
          </a:ln>
        </p:spPr>
      </p:pic>
      <p:sp>
        <p:nvSpPr>
          <p:cNvPr id="397" name="Text Box 4"/>
          <p:cNvSpPr/>
          <p:nvPr/>
        </p:nvSpPr>
        <p:spPr>
          <a:xfrm>
            <a:off x="720720" y="720720"/>
            <a:ext cx="7559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Schoolbook"/>
                <a:ea typeface="Arial Unicode MS"/>
              </a:rPr>
              <a:t>Обоснование выбора темы проект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8240" cy="113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Обоснование выбора темы проекта 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99" name="Text Box 6"/>
          <p:cNvSpPr/>
          <p:nvPr/>
        </p:nvSpPr>
        <p:spPr>
          <a:xfrm>
            <a:off x="4319640" y="2340000"/>
            <a:ext cx="4140000" cy="37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Негативное влияние шума сказывается на органах слуха, сердечно-сосудистой системе, на работе печени, к истощению и перенапряжению нервных клеток, к изменениям в стволовых клетках. Ослабленные клетки нервной системы не могут достаточно четко координировать работу различных систем организма. Различные виды шумов приводят к развитию шумовой болезни.  Проведенные научные исследования показали, что у людей, находящихся в шумной обстановке,  в результате систематического воздействия шума, производительность труда падает на 10% и увеличивается заболеваемость на 30%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00" name="Picture 7" descr=""/>
          <p:cNvPicPr/>
          <p:nvPr/>
        </p:nvPicPr>
        <p:blipFill>
          <a:blip r:embed="rId3"/>
          <a:stretch/>
        </p:blipFill>
        <p:spPr>
          <a:xfrm>
            <a:off x="7020000" y="1260360"/>
            <a:ext cx="1218960" cy="117180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Text Box 1"/>
          <p:cNvSpPr/>
          <p:nvPr/>
        </p:nvSpPr>
        <p:spPr>
          <a:xfrm>
            <a:off x="457200" y="274680"/>
            <a:ext cx="6419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500" spc="-1" strike="noStrike">
                <a:solidFill>
                  <a:srgbClr val="000000"/>
                </a:solidFill>
                <a:latin typeface="Century Schoolbook"/>
                <a:ea typeface="Arial Unicode MS"/>
              </a:rPr>
              <a:t>ЦЕЛЬ ПРОЕКТА</a:t>
            </a:r>
            <a:endParaRPr b="0" lang="en-US" sz="5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Text Box 2"/>
          <p:cNvSpPr/>
          <p:nvPr/>
        </p:nvSpPr>
        <p:spPr>
          <a:xfrm>
            <a:off x="45720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spcBef>
                <a:spcPts val="601"/>
              </a:spcBef>
              <a:tabLst>
                <a:tab algn="l" pos="0"/>
                <a:tab algn="l" pos="235080"/>
                <a:tab algn="l" pos="682560"/>
                <a:tab algn="l" pos="1131840"/>
                <a:tab algn="l" pos="1581120"/>
                <a:tab algn="l" pos="2030400"/>
                <a:tab algn="l" pos="2479680"/>
                <a:tab algn="l" pos="2928960"/>
                <a:tab algn="l" pos="3378240"/>
                <a:tab algn="l" pos="3827520"/>
                <a:tab algn="l" pos="4276800"/>
                <a:tab algn="l" pos="4726080"/>
                <a:tab algn="l" pos="5175360"/>
                <a:tab algn="l" pos="5624640"/>
                <a:tab algn="l" pos="6073920"/>
                <a:tab algn="l" pos="6523200"/>
                <a:tab algn="l" pos="6972480"/>
                <a:tab algn="l" pos="7421400"/>
                <a:tab algn="l" pos="7870680"/>
                <a:tab algn="l" pos="8319960"/>
                <a:tab algn="l" pos="8769240"/>
                <a:tab algn="l" pos="9218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3668c4"/>
                </a:solidFill>
                <a:latin typeface="Times New Roman"/>
                <a:ea typeface="Arial Unicode MS"/>
              </a:rPr>
              <a:t>  </a:t>
            </a:r>
            <a:r>
              <a:rPr b="0" lang="ru-RU" sz="4000" spc="-1" strike="noStrike">
                <a:solidFill>
                  <a:srgbClr val="3668c4"/>
                </a:solidFill>
                <a:latin typeface="Times New Roman"/>
                <a:ea typeface="Arial Unicode MS"/>
              </a:rPr>
              <a:t>Разработать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235080" indent="-235080">
              <a:spcBef>
                <a:spcPts val="601"/>
              </a:spcBef>
              <a:tabLst>
                <a:tab algn="l" pos="0"/>
                <a:tab algn="l" pos="235080"/>
                <a:tab algn="l" pos="682560"/>
                <a:tab algn="l" pos="1131840"/>
                <a:tab algn="l" pos="1581120"/>
                <a:tab algn="l" pos="2030400"/>
                <a:tab algn="l" pos="2479680"/>
                <a:tab algn="l" pos="2928960"/>
                <a:tab algn="l" pos="3378240"/>
                <a:tab algn="l" pos="3827520"/>
                <a:tab algn="l" pos="4276800"/>
                <a:tab algn="l" pos="4726080"/>
                <a:tab algn="l" pos="5175360"/>
                <a:tab algn="l" pos="5624640"/>
                <a:tab algn="l" pos="6073920"/>
                <a:tab algn="l" pos="6523200"/>
                <a:tab algn="l" pos="6972480"/>
                <a:tab algn="l" pos="7421400"/>
                <a:tab algn="l" pos="7870680"/>
                <a:tab algn="l" pos="8319960"/>
                <a:tab algn="l" pos="8769240"/>
                <a:tab algn="l" pos="9218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3668c4"/>
                </a:solidFill>
                <a:latin typeface="Times New Roman"/>
                <a:ea typeface="Arial Unicode MS"/>
              </a:rPr>
              <a:t> </a:t>
            </a:r>
            <a:r>
              <a:rPr b="0" lang="en-US" sz="4000" spc="-1" strike="noStrike">
                <a:solidFill>
                  <a:srgbClr val="3668c4"/>
                </a:solidFill>
                <a:latin typeface="Times New Roman"/>
                <a:ea typeface="Arial Unicode MS"/>
              </a:rPr>
              <a:t> </a:t>
            </a:r>
            <a:r>
              <a:rPr b="0" lang="ru-RU" sz="4000" spc="-1" strike="noStrike">
                <a:solidFill>
                  <a:srgbClr val="3668c4"/>
                </a:solidFill>
                <a:latin typeface="Times New Roman"/>
                <a:ea typeface="Arial Unicode MS"/>
              </a:rPr>
              <a:t>рекомендации по защите от </a:t>
            </a:r>
            <a:r>
              <a:rPr b="0" lang="en-US" sz="4000" spc="-1" strike="noStrike">
                <a:solidFill>
                  <a:srgbClr val="3668c4"/>
                </a:solidFill>
                <a:latin typeface="Times New Roman"/>
                <a:ea typeface="Arial Unicode MS"/>
              </a:rPr>
              <a:t> </a:t>
            </a:r>
            <a:r>
              <a:rPr b="0" lang="ru-RU" sz="4000" spc="-1" strike="noStrike">
                <a:solidFill>
                  <a:srgbClr val="3668c4"/>
                </a:solidFill>
                <a:latin typeface="Times New Roman"/>
                <a:ea typeface="Arial Unicode MS"/>
              </a:rPr>
              <a:t>        </a:t>
            </a:r>
            <a:r>
              <a:rPr b="0" lang="en-US" sz="4000" spc="-1" strike="noStrike">
                <a:solidFill>
                  <a:srgbClr val="3668c4"/>
                </a:solidFill>
                <a:latin typeface="Times New Roman"/>
                <a:ea typeface="Arial Unicode MS"/>
              </a:rPr>
              <a:t>    </a:t>
            </a:r>
            <a:r>
              <a:rPr b="0" lang="ru-RU" sz="4000" spc="-1" strike="noStrike">
                <a:solidFill>
                  <a:srgbClr val="3668c4"/>
                </a:solidFill>
                <a:latin typeface="Times New Roman"/>
                <a:ea typeface="Arial Unicode MS"/>
              </a:rPr>
              <a:t>негативного воздействия шума   на организм человека;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03" name="Picture 3" descr=""/>
          <p:cNvPicPr/>
          <p:nvPr/>
        </p:nvPicPr>
        <p:blipFill>
          <a:blip r:embed="rId1"/>
          <a:stretch/>
        </p:blipFill>
        <p:spPr>
          <a:xfrm>
            <a:off x="6588000" y="189000"/>
            <a:ext cx="2086200" cy="235728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4" descr=""/>
          <p:cNvPicPr/>
          <p:nvPr/>
        </p:nvPicPr>
        <p:blipFill>
          <a:blip r:embed="rId2"/>
          <a:stretch/>
        </p:blipFill>
        <p:spPr>
          <a:xfrm>
            <a:off x="1779480" y="4319640"/>
            <a:ext cx="2000520" cy="192888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Text Box 1"/>
          <p:cNvSpPr/>
          <p:nvPr/>
        </p:nvSpPr>
        <p:spPr>
          <a:xfrm>
            <a:off x="457200" y="274680"/>
            <a:ext cx="613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entury Schoolbook"/>
                <a:ea typeface="Arial Unicode MS"/>
              </a:rPr>
              <a:t>ЗАДАЧИ ПРОЕКТА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Text Box 2"/>
          <p:cNvSpPr/>
          <p:nvPr/>
        </p:nvSpPr>
        <p:spPr>
          <a:xfrm>
            <a:off x="395280" y="1628640"/>
            <a:ext cx="8115480" cy="487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3668c4"/>
                </a:solidFill>
                <a:latin typeface="Times New Roman"/>
                <a:ea typeface="Arial Unicode MS"/>
              </a:rPr>
              <a:t>1.Выяснить, что такое шум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3668c4"/>
                </a:solidFill>
                <a:latin typeface="Times New Roman"/>
                <a:ea typeface="Arial Unicode MS"/>
              </a:rPr>
              <a:t>2.Выявить источники шума в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3668c4"/>
                </a:solidFill>
                <a:latin typeface="Times New Roman"/>
                <a:ea typeface="Arial Unicode MS"/>
              </a:rPr>
              <a:t>   </a:t>
            </a:r>
            <a:r>
              <a:rPr b="0" lang="ru-RU" sz="3200" spc="-1" strike="noStrike">
                <a:solidFill>
                  <a:srgbClr val="3668c4"/>
                </a:solidFill>
                <a:latin typeface="Times New Roman"/>
                <a:ea typeface="Arial Unicode MS"/>
              </a:rPr>
              <a:t>окружающей среде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3668c4"/>
                </a:solidFill>
                <a:latin typeface="Times New Roman"/>
                <a:ea typeface="Arial Unicode MS"/>
              </a:rPr>
              <a:t>3.Выявить опасный предел шума дл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3668c4"/>
                </a:solidFill>
                <a:latin typeface="Times New Roman"/>
                <a:ea typeface="Arial Unicode MS"/>
              </a:rPr>
              <a:t>   </a:t>
            </a:r>
            <a:r>
              <a:rPr b="0" lang="ru-RU" sz="3200" spc="-1" strike="noStrike">
                <a:solidFill>
                  <a:srgbClr val="3668c4"/>
                </a:solidFill>
                <a:latin typeface="Times New Roman"/>
                <a:ea typeface="Arial Unicode MS"/>
              </a:rPr>
              <a:t>восприятия человека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3668c4"/>
                </a:solidFill>
                <a:latin typeface="Times New Roman"/>
                <a:ea typeface="Arial Unicode MS"/>
              </a:rPr>
              <a:t>4.Рекомендовать способы защиты о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3668c4"/>
                </a:solidFill>
                <a:latin typeface="Times New Roman"/>
                <a:ea typeface="Arial Unicode MS"/>
              </a:rPr>
              <a:t>   </a:t>
            </a:r>
            <a:r>
              <a:rPr b="0" lang="ru-RU" sz="3200" spc="-1" strike="noStrike">
                <a:solidFill>
                  <a:srgbClr val="3668c4"/>
                </a:solidFill>
                <a:latin typeface="Times New Roman"/>
                <a:ea typeface="Arial Unicode MS"/>
              </a:rPr>
              <a:t>шума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07" name="Picture 3" descr=""/>
          <p:cNvPicPr/>
          <p:nvPr/>
        </p:nvPicPr>
        <p:blipFill>
          <a:blip r:embed="rId1"/>
          <a:stretch/>
        </p:blipFill>
        <p:spPr>
          <a:xfrm>
            <a:off x="6300720" y="1440000"/>
            <a:ext cx="1643040" cy="171432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Text Box 1"/>
          <p:cNvSpPr/>
          <p:nvPr/>
        </p:nvSpPr>
        <p:spPr>
          <a:xfrm>
            <a:off x="1619280" y="189000"/>
            <a:ext cx="703584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entury Schoolbook"/>
                <a:ea typeface="Arial Unicode MS"/>
              </a:rPr>
              <a:t>КРИТЕРИИ ПРОЕКТА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Text Box 2"/>
          <p:cNvSpPr/>
          <p:nvPr/>
        </p:nvSpPr>
        <p:spPr>
          <a:xfrm>
            <a:off x="235080" y="1481040"/>
            <a:ext cx="9001080" cy="444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3668c4"/>
                </a:solidFill>
                <a:latin typeface="Times New Roman"/>
                <a:ea typeface="Arial Unicode MS"/>
              </a:rPr>
              <a:t>      </a:t>
            </a:r>
            <a:r>
              <a:rPr b="0" lang="ru-RU" sz="4000" spc="-1" strike="noStrike">
                <a:solidFill>
                  <a:srgbClr val="3668c4"/>
                </a:solidFill>
                <a:latin typeface="Times New Roman"/>
                <a:ea typeface="Arial Unicode MS"/>
              </a:rPr>
              <a:t>1.     Красочность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3668c4"/>
                </a:solidFill>
                <a:latin typeface="Times New Roman"/>
                <a:ea typeface="Arial Unicode MS"/>
              </a:rPr>
              <a:t>      </a:t>
            </a:r>
            <a:r>
              <a:rPr b="0" lang="ru-RU" sz="4000" spc="-1" strike="noStrike">
                <a:solidFill>
                  <a:srgbClr val="3668c4"/>
                </a:solidFill>
                <a:latin typeface="Times New Roman"/>
                <a:ea typeface="Arial Unicode MS"/>
              </a:rPr>
              <a:t>2.     Доступность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3668c4"/>
                </a:solidFill>
                <a:latin typeface="Times New Roman"/>
                <a:ea typeface="Arial Unicode MS"/>
              </a:rPr>
              <a:t>              </a:t>
            </a:r>
            <a:r>
              <a:rPr b="0" lang="ru-RU" sz="4000" spc="-1" strike="noStrike">
                <a:solidFill>
                  <a:srgbClr val="3668c4"/>
                </a:solidFill>
                <a:latin typeface="Times New Roman"/>
                <a:ea typeface="Arial Unicode MS"/>
              </a:rPr>
              <a:t>изложения материала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3668c4"/>
                </a:solidFill>
                <a:latin typeface="Times New Roman"/>
                <a:ea typeface="Arial Unicode MS"/>
              </a:rPr>
              <a:t>      </a:t>
            </a:r>
            <a:r>
              <a:rPr b="0" lang="ru-RU" sz="4000" spc="-1" strike="noStrike">
                <a:solidFill>
                  <a:srgbClr val="3668c4"/>
                </a:solidFill>
                <a:latin typeface="Times New Roman"/>
                <a:ea typeface="Arial Unicode MS"/>
              </a:rPr>
              <a:t>3.     Информативность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3668c4"/>
                </a:solidFill>
                <a:latin typeface="Times New Roman"/>
                <a:ea typeface="Arial Unicode MS"/>
              </a:rPr>
              <a:t>      </a:t>
            </a:r>
            <a:r>
              <a:rPr b="0" lang="ru-RU" sz="4000" spc="-1" strike="noStrike">
                <a:solidFill>
                  <a:srgbClr val="3668c4"/>
                </a:solidFill>
                <a:latin typeface="Times New Roman"/>
                <a:ea typeface="Arial Unicode MS"/>
              </a:rPr>
              <a:t>4.     Достоверность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3668c4"/>
                </a:solidFill>
                <a:latin typeface="Times New Roman"/>
                <a:ea typeface="Arial Unicode MS"/>
              </a:rPr>
              <a:t>     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10" name="Picture 3" descr=""/>
          <p:cNvPicPr/>
          <p:nvPr/>
        </p:nvPicPr>
        <p:blipFill>
          <a:blip r:embed="rId1"/>
          <a:stretch/>
        </p:blipFill>
        <p:spPr>
          <a:xfrm>
            <a:off x="480960" y="5040360"/>
            <a:ext cx="1859040" cy="146376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4" descr=""/>
          <p:cNvPicPr/>
          <p:nvPr/>
        </p:nvPicPr>
        <p:blipFill>
          <a:blip r:embed="rId2"/>
          <a:stretch/>
        </p:blipFill>
        <p:spPr>
          <a:xfrm>
            <a:off x="5425920" y="4500720"/>
            <a:ext cx="3033720" cy="180000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5" descr=""/>
          <p:cNvPicPr/>
          <p:nvPr/>
        </p:nvPicPr>
        <p:blipFill>
          <a:blip r:embed="rId3"/>
          <a:stretch/>
        </p:blipFill>
        <p:spPr>
          <a:xfrm>
            <a:off x="5265720" y="1265400"/>
            <a:ext cx="3193920" cy="179532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Text Box 1"/>
          <p:cNvSpPr/>
          <p:nvPr/>
        </p:nvSpPr>
        <p:spPr>
          <a:xfrm>
            <a:off x="428760" y="735120"/>
            <a:ext cx="7920000" cy="613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Что такое шум 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2323dc"/>
                </a:solidFill>
                <a:latin typeface="Times New Roman"/>
                <a:ea typeface="Arial Unicode MS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Century Schoolbook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2323dc"/>
                </a:solidFill>
                <a:latin typeface="Times New Roman"/>
                <a:ea typeface="Arial Unicode MS"/>
              </a:rPr>
              <a:t>  </a:t>
            </a:r>
            <a:r>
              <a:rPr b="0" lang="ru-RU" sz="2800" spc="-1" strike="noStrike">
                <a:solidFill>
                  <a:srgbClr val="2323dc"/>
                </a:solidFill>
                <a:latin typeface="Times New Roman"/>
                <a:ea typeface="Arial Unicode MS"/>
              </a:rPr>
              <a:t>Шум — беспорядочное сочетание различных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323dc"/>
                </a:solidFill>
                <a:latin typeface="Times New Roman"/>
                <a:ea typeface="Arial Unicode MS"/>
              </a:rPr>
              <a:t>     </a:t>
            </a:r>
            <a:r>
              <a:rPr b="0" lang="ru-RU" sz="2800" spc="-1" strike="noStrike">
                <a:solidFill>
                  <a:srgbClr val="2323dc"/>
                </a:solidFill>
                <a:latin typeface="Times New Roman"/>
                <a:ea typeface="Arial Unicode MS"/>
              </a:rPr>
              <a:t>по</a:t>
            </a:r>
            <a:r>
              <a:rPr b="0" lang="en-US" sz="2800" spc="-1" strike="noStrike">
                <a:solidFill>
                  <a:srgbClr val="2323dc"/>
                </a:solidFill>
                <a:latin typeface="Times New Roman"/>
                <a:ea typeface="Arial Unicode MS"/>
              </a:rPr>
              <a:t> </a:t>
            </a:r>
            <a:r>
              <a:rPr b="0" lang="ru-RU" sz="2800" spc="-1" strike="noStrike">
                <a:solidFill>
                  <a:srgbClr val="2323dc"/>
                </a:solidFill>
                <a:latin typeface="Times New Roman"/>
                <a:ea typeface="Arial Unicode MS"/>
              </a:rPr>
              <a:t>   силе и частоте звуков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Century Schoolbook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2323dc"/>
                </a:solidFill>
                <a:latin typeface="Times New Roman"/>
                <a:ea typeface="Arial Unicode MS"/>
              </a:rPr>
              <a:t>  </a:t>
            </a:r>
            <a:r>
              <a:rPr b="0" lang="ru-RU" sz="2800" spc="-1" strike="noStrike">
                <a:solidFill>
                  <a:srgbClr val="2323dc"/>
                </a:solidFill>
                <a:latin typeface="Times New Roman"/>
                <a:ea typeface="Arial Unicode MS"/>
              </a:rPr>
              <a:t>Шум — громкие звуки, слившиеся в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2323dc"/>
                </a:solidFill>
                <a:latin typeface="Times New Roman"/>
                <a:ea typeface="Arial Unicode MS"/>
              </a:rPr>
              <a:t>     </a:t>
            </a:r>
            <a:r>
              <a:rPr b="0" lang="ru-RU" sz="2800" spc="-1" strike="noStrike">
                <a:solidFill>
                  <a:srgbClr val="2323dc"/>
                </a:solidFill>
                <a:latin typeface="Times New Roman"/>
                <a:ea typeface="Arial Unicode MS"/>
              </a:rPr>
              <a:t>нестройное    звучание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Century Schoolbook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2323dc"/>
                </a:solidFill>
                <a:latin typeface="Times New Roman"/>
                <a:ea typeface="Arial Unicode MS"/>
              </a:rPr>
              <a:t>  </a:t>
            </a:r>
            <a:r>
              <a:rPr b="0" lang="ru-RU" sz="2800" spc="-1" strike="noStrike">
                <a:solidFill>
                  <a:srgbClr val="2323dc"/>
                </a:solidFill>
                <a:latin typeface="Times New Roman"/>
                <a:ea typeface="Arial Unicode MS"/>
              </a:rPr>
              <a:t>Шум-явление всепроникающее и негативно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2323dc"/>
                </a:solidFill>
                <a:latin typeface="Times New Roman"/>
                <a:ea typeface="Arial Unicode MS"/>
              </a:rPr>
              <a:t>    </a:t>
            </a:r>
            <a:r>
              <a:rPr b="0" lang="ru-RU" sz="2800" spc="-1" strike="noStrike">
                <a:solidFill>
                  <a:srgbClr val="2323dc"/>
                </a:solidFill>
                <a:latin typeface="Times New Roman"/>
                <a:ea typeface="Arial Unicode MS"/>
              </a:rPr>
              <a:t>воздействующее на организм человека в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2323dc"/>
                </a:solidFill>
                <a:latin typeface="Times New Roman"/>
                <a:ea typeface="Arial Unicode MS"/>
              </a:rPr>
              <a:t>    </a:t>
            </a:r>
            <a:r>
              <a:rPr b="0" lang="ru-RU" sz="2800" spc="-1" strike="noStrike">
                <a:solidFill>
                  <a:srgbClr val="2323dc"/>
                </a:solidFill>
                <a:latin typeface="Times New Roman"/>
                <a:ea typeface="Arial Unicode MS"/>
              </a:rPr>
              <a:t>совокупности с другими факторами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2323dc"/>
                </a:solidFill>
                <a:latin typeface="Times New Roman"/>
                <a:ea typeface="Arial Unicode MS"/>
              </a:rPr>
              <a:t>    </a:t>
            </a:r>
            <a:r>
              <a:rPr b="0" lang="ru-RU" sz="2800" spc="-1" strike="noStrike">
                <a:solidFill>
                  <a:srgbClr val="2323dc"/>
                </a:solidFill>
                <a:latin typeface="Times New Roman"/>
                <a:ea typeface="Arial Unicode MS"/>
              </a:rPr>
              <a:t>(вредными       примесями в воздухе и воде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2323dc"/>
                </a:solidFill>
                <a:latin typeface="Times New Roman"/>
                <a:ea typeface="Arial Unicode MS"/>
              </a:rPr>
              <a:t>    </a:t>
            </a:r>
            <a:r>
              <a:rPr b="0" lang="ru-RU" sz="2800" spc="-1" strike="noStrike">
                <a:solidFill>
                  <a:srgbClr val="2323dc"/>
                </a:solidFill>
                <a:latin typeface="Times New Roman"/>
                <a:ea typeface="Arial Unicode MS"/>
              </a:rPr>
              <a:t>электромагнитным   излучением,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2323dc"/>
                </a:solidFill>
                <a:latin typeface="Times New Roman"/>
                <a:ea typeface="Arial Unicode MS"/>
              </a:rPr>
              <a:t>    </a:t>
            </a:r>
            <a:r>
              <a:rPr b="0" lang="ru-RU" sz="2800" spc="-1" strike="noStrike">
                <a:solidFill>
                  <a:srgbClr val="2323dc"/>
                </a:solidFill>
                <a:latin typeface="Times New Roman"/>
                <a:ea typeface="Arial Unicode MS"/>
              </a:rPr>
              <a:t>напряженностью труда и т.д.).</a:t>
            </a:r>
            <a:r>
              <a:rPr b="0" lang="ru-RU" sz="2800" spc="-1" strike="noStrike">
                <a:solidFill>
                  <a:srgbClr val="2323dc"/>
                </a:solidFill>
                <a:latin typeface="Times New Roman"/>
                <a:ea typeface="Arial Unicode MS"/>
              </a:rPr>
              <a:t>	</a:t>
            </a:r>
            <a:r>
              <a:rPr b="0" lang="ru-RU" sz="2800" spc="-1" strike="noStrike">
                <a:solidFill>
                  <a:srgbClr val="2323dc"/>
                </a:solidFill>
                <a:latin typeface="Times New Roman"/>
                <a:ea typeface="Arial Unicode MS"/>
              </a:rPr>
              <a:t>	</a:t>
            </a:r>
            <a:r>
              <a:rPr b="0" lang="ru-RU" sz="2800" spc="-1" strike="noStrike">
                <a:solidFill>
                  <a:srgbClr val="2323dc"/>
                </a:solidFill>
                <a:latin typeface="Times New Roman"/>
                <a:ea typeface="Arial Unicode MS"/>
              </a:rPr>
              <a:t>	</a:t>
            </a:r>
            <a:r>
              <a:rPr b="0" lang="ru-RU" sz="2800" spc="-1" strike="noStrike">
                <a:solidFill>
                  <a:srgbClr val="2323dc"/>
                </a:solidFill>
                <a:latin typeface="Times New Roman"/>
                <a:ea typeface="Arial Unicode MS"/>
              </a:rPr>
              <a:t>	</a:t>
            </a:r>
            <a:r>
              <a:rPr b="0" lang="ru-RU" sz="2800" spc="-1" strike="noStrike">
                <a:solidFill>
                  <a:srgbClr val="2323dc"/>
                </a:solidFill>
                <a:latin typeface="Times New Roman"/>
                <a:ea typeface="Arial Unicode MS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2323dc"/>
                </a:solidFill>
                <a:latin typeface="Times New Roman"/>
                <a:ea typeface="Arial Unicode MS"/>
              </a:rPr>
              <a:t>   </a:t>
            </a:r>
            <a:r>
              <a:rPr b="0" lang="ru-RU" sz="2800" spc="-1" strike="noStrike">
                <a:solidFill>
                  <a:srgbClr val="2323dc"/>
                </a:solidFill>
                <a:latin typeface="Times New Roman"/>
                <a:ea typeface="Arial Unicode MS"/>
              </a:rPr>
              <a:t>	</a:t>
            </a:r>
            <a:r>
              <a:rPr b="0" lang="ru-RU" sz="2800" spc="-1" strike="noStrike">
                <a:solidFill>
                  <a:srgbClr val="2323dc"/>
                </a:solidFill>
                <a:latin typeface="Times New Roman"/>
                <a:ea typeface="Arial Unicode MS"/>
              </a:rPr>
              <a:t>	</a:t>
            </a:r>
            <a:r>
              <a:rPr b="0" lang="ru-RU" sz="2800" spc="-1" strike="noStrike">
                <a:solidFill>
                  <a:srgbClr val="2323dc"/>
                </a:solidFill>
                <a:latin typeface="Times New Roman"/>
                <a:ea typeface="Arial Unicode MS"/>
              </a:rPr>
              <a:t>	</a:t>
            </a:r>
            <a:r>
              <a:rPr b="0" lang="ru-RU" sz="2800" spc="-1" strike="noStrike">
                <a:solidFill>
                  <a:srgbClr val="2323dc"/>
                </a:solidFill>
                <a:latin typeface="Times New Roman"/>
                <a:ea typeface="Arial Unicode MS"/>
              </a:rPr>
              <a:t>	</a:t>
            </a:r>
            <a:r>
              <a:rPr b="0" lang="ru-RU" sz="2800" spc="-1" strike="noStrike">
                <a:solidFill>
                  <a:srgbClr val="2323dc"/>
                </a:solidFill>
                <a:latin typeface="Times New Roman"/>
                <a:ea typeface="Arial Unicode MS"/>
              </a:rPr>
              <a:t>	</a:t>
            </a:r>
            <a:r>
              <a:rPr b="0" lang="ru-RU" sz="2800" spc="-1" strike="noStrike">
                <a:solidFill>
                  <a:srgbClr val="2323dc"/>
                </a:solidFill>
                <a:latin typeface="Times New Roman"/>
                <a:ea typeface="Arial Unicode MS"/>
              </a:rPr>
              <a:t>	</a:t>
            </a:r>
            <a:r>
              <a:rPr b="0" lang="ru-RU" sz="2800" spc="-1" strike="noStrike">
                <a:solidFill>
                  <a:srgbClr val="2323dc"/>
                </a:solidFill>
                <a:latin typeface="Times New Roman"/>
                <a:ea typeface="Arial Unicode MS"/>
              </a:rPr>
              <a:t>	</a:t>
            </a:r>
            <a:r>
              <a:rPr b="0" lang="ru-RU" sz="2800" spc="-1" strike="noStrike">
                <a:solidFill>
                  <a:srgbClr val="2323dc"/>
                </a:solidFill>
                <a:latin typeface="Times New Roman"/>
                <a:ea typeface="Arial Unicode MS"/>
              </a:rPr>
              <a:t>	</a:t>
            </a:r>
            <a:r>
              <a:rPr b="0" lang="ru-RU" sz="2800" spc="-1" strike="noStrike">
                <a:solidFill>
                  <a:srgbClr val="2323dc"/>
                </a:solidFill>
                <a:latin typeface="Times New Roman"/>
                <a:ea typeface="Arial Unicode MS"/>
              </a:rPr>
              <a:t>	</a:t>
            </a:r>
            <a:r>
              <a:rPr b="0" lang="ru-RU" sz="2800" spc="-1" strike="noStrike">
                <a:solidFill>
                  <a:srgbClr val="2323dc"/>
                </a:solidFill>
                <a:latin typeface="Times New Roman"/>
                <a:ea typeface="Arial Unicode MS"/>
              </a:rPr>
              <a:t>	</a:t>
            </a:r>
            <a:r>
              <a:rPr b="0" lang="ru-RU" sz="2800" spc="-1" strike="noStrike">
                <a:solidFill>
                  <a:srgbClr val="2323dc"/>
                </a:solidFill>
                <a:latin typeface="Times New Roman"/>
                <a:ea typeface="Arial Unicode MS"/>
              </a:rPr>
              <a:t>	</a:t>
            </a:r>
            <a:r>
              <a:rPr b="0" lang="ru-RU" sz="2800" spc="-1" strike="noStrike">
                <a:solidFill>
                  <a:srgbClr val="2323dc"/>
                </a:solidFill>
                <a:latin typeface="Times New Roman"/>
                <a:ea typeface="Arial Unicode MS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14" name="Picture 2" descr=""/>
          <p:cNvPicPr/>
          <p:nvPr/>
        </p:nvPicPr>
        <p:blipFill>
          <a:blip r:embed="rId1"/>
          <a:stretch/>
        </p:blipFill>
        <p:spPr>
          <a:xfrm>
            <a:off x="6450120" y="720720"/>
            <a:ext cx="2009520" cy="107964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Picture 1" descr=""/>
          <p:cNvPicPr/>
          <p:nvPr/>
        </p:nvPicPr>
        <p:blipFill>
          <a:blip r:embed="rId1"/>
          <a:stretch/>
        </p:blipFill>
        <p:spPr>
          <a:xfrm>
            <a:off x="5219640" y="4140360"/>
            <a:ext cx="3060720" cy="2160360"/>
          </a:xfrm>
          <a:prstGeom prst="rect">
            <a:avLst/>
          </a:prstGeom>
          <a:ln w="0">
            <a:noFill/>
          </a:ln>
        </p:spPr>
      </p:pic>
      <p:sp>
        <p:nvSpPr>
          <p:cNvPr id="416" name="Text Box 2"/>
          <p:cNvSpPr/>
          <p:nvPr/>
        </p:nvSpPr>
        <p:spPr>
          <a:xfrm>
            <a:off x="539640" y="549360"/>
            <a:ext cx="7666200" cy="575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entury Schoolbook"/>
                <a:ea typeface="Arial Unicode MS"/>
              </a:rPr>
              <a:t>Источники шума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2323dc"/>
                </a:solidFill>
                <a:latin typeface="Century Schoolbook"/>
                <a:ea typeface="Arial Unicode MS"/>
              </a:rPr>
              <a:t> </a:t>
            </a:r>
            <a:r>
              <a:rPr b="0" lang="ru-RU" sz="2800" spc="-1" strike="noStrike">
                <a:solidFill>
                  <a:srgbClr val="2323dc"/>
                </a:solidFill>
                <a:latin typeface="Century Schoolbook"/>
                <a:ea typeface="Arial Unicode MS"/>
              </a:rPr>
              <a:t>Работа бытовых приборов: телевизор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2323dc"/>
                </a:solidFill>
                <a:latin typeface="Century Schoolbook"/>
                <a:ea typeface="Arial Unicode MS"/>
              </a:rPr>
              <a:t>   </a:t>
            </a:r>
            <a:r>
              <a:rPr b="0" lang="ru-RU" sz="2800" spc="-1" strike="noStrike">
                <a:solidFill>
                  <a:srgbClr val="2323dc"/>
                </a:solidFill>
                <a:latin typeface="Century Schoolbook"/>
                <a:ea typeface="Arial Unicode MS"/>
              </a:rPr>
              <a:t>магнитофон, стиральная машина, радио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2323dc"/>
                </a:solidFill>
                <a:latin typeface="Century Schoolbook"/>
                <a:ea typeface="Arial Unicode MS"/>
              </a:rPr>
              <a:t>   </a:t>
            </a:r>
            <a:r>
              <a:rPr b="0" lang="ru-RU" sz="2800" spc="-1" strike="noStrike">
                <a:solidFill>
                  <a:srgbClr val="2323dc"/>
                </a:solidFill>
                <a:latin typeface="Century Schoolbook"/>
                <a:ea typeface="Arial Unicode MS"/>
              </a:rPr>
              <a:t>Транспорт железнодорожный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2323dc"/>
                </a:solidFill>
                <a:latin typeface="Century Schoolbook"/>
                <a:ea typeface="Arial Unicode MS"/>
              </a:rPr>
              <a:t>   </a:t>
            </a:r>
            <a:r>
              <a:rPr b="0" lang="ru-RU" sz="2800" spc="-1" strike="noStrike">
                <a:solidFill>
                  <a:srgbClr val="2323dc"/>
                </a:solidFill>
                <a:latin typeface="Century Schoolbook"/>
                <a:ea typeface="Arial Unicode MS"/>
              </a:rPr>
              <a:t>авиационный,    автомобильный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2323dc"/>
                </a:solidFill>
                <a:latin typeface="Century Schoolbook"/>
                <a:ea typeface="Arial Unicode MS"/>
              </a:rPr>
              <a:t> </a:t>
            </a:r>
            <a:r>
              <a:rPr b="0" lang="ru-RU" sz="2800" spc="-1" strike="noStrike">
                <a:solidFill>
                  <a:srgbClr val="2323dc"/>
                </a:solidFill>
                <a:latin typeface="Century Schoolbook"/>
                <a:ea typeface="Arial Unicode MS"/>
              </a:rPr>
              <a:t>Строительные работы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2323dc"/>
                </a:solidFill>
                <a:latin typeface="Century Schoolbook"/>
                <a:ea typeface="Arial Unicode MS"/>
              </a:rPr>
              <a:t> </a:t>
            </a:r>
            <a:r>
              <a:rPr b="0" lang="ru-RU" sz="2800" spc="-1" strike="noStrike">
                <a:solidFill>
                  <a:srgbClr val="2323dc"/>
                </a:solidFill>
                <a:latin typeface="Century Schoolbook"/>
                <a:ea typeface="Arial Unicode MS"/>
              </a:rPr>
              <a:t>Природные явления: гром, цунами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2323dc"/>
                </a:solidFill>
                <a:latin typeface="Century Schoolbook"/>
                <a:ea typeface="Arial Unicode MS"/>
              </a:rPr>
              <a:t>   </a:t>
            </a:r>
            <a:r>
              <a:rPr b="0" lang="ru-RU" sz="2800" spc="-1" strike="noStrike">
                <a:solidFill>
                  <a:srgbClr val="2323dc"/>
                </a:solidFill>
                <a:latin typeface="Century Schoolbook"/>
                <a:ea typeface="Arial Unicode MS"/>
              </a:rPr>
              <a:t>землетрясение, обвалы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2323dc"/>
                </a:solidFill>
                <a:latin typeface="Century Schoolbook"/>
                <a:ea typeface="Arial Unicode MS"/>
              </a:rPr>
              <a:t> </a:t>
            </a:r>
            <a:r>
              <a:rPr b="0" lang="ru-RU" sz="2800" spc="-1" strike="noStrike">
                <a:solidFill>
                  <a:srgbClr val="2323dc"/>
                </a:solidFill>
                <a:latin typeface="Century Schoolbook"/>
                <a:ea typeface="Arial Unicode MS"/>
              </a:rPr>
              <a:t>Музыка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2323dc"/>
                </a:solidFill>
                <a:latin typeface="Century Schoolbook"/>
                <a:ea typeface="Arial Unicode MS"/>
              </a:rPr>
              <a:t> </a:t>
            </a:r>
            <a:r>
              <a:rPr b="0" lang="ru-RU" sz="2800" spc="-1" strike="noStrike">
                <a:solidFill>
                  <a:srgbClr val="2323dc"/>
                </a:solidFill>
                <a:latin typeface="Century Schoolbook"/>
                <a:ea typeface="Arial Unicode MS"/>
              </a:rPr>
              <a:t>Шелест листвы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2323dc"/>
                </a:solidFill>
                <a:latin typeface="Century Schoolbook"/>
                <a:ea typeface="Arial Unicode MS"/>
              </a:rPr>
              <a:t> </a:t>
            </a:r>
            <a:r>
              <a:rPr b="0" lang="ru-RU" sz="2800" spc="-1" strike="noStrike">
                <a:solidFill>
                  <a:srgbClr val="2323dc"/>
                </a:solidFill>
                <a:latin typeface="Century Schoolbook"/>
                <a:ea typeface="Arial Unicode MS"/>
              </a:rPr>
              <a:t>Шепот, разговор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2323dc"/>
                </a:solidFill>
                <a:latin typeface="Century Schoolbook"/>
                <a:ea typeface="Arial Unicode MS"/>
              </a:rPr>
              <a:t> </a:t>
            </a:r>
            <a:r>
              <a:rPr b="0" lang="ru-RU" sz="2800" spc="-1" strike="noStrike">
                <a:solidFill>
                  <a:srgbClr val="2323dc"/>
                </a:solidFill>
                <a:latin typeface="Century Schoolbook"/>
                <a:ea typeface="Arial Unicode MS"/>
              </a:rPr>
              <a:t>Течение воды из крана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2323dc"/>
                </a:solidFill>
                <a:latin typeface="Century Schoolbook"/>
                <a:ea typeface="Arial Unicode MS"/>
              </a:rPr>
              <a:t> </a:t>
            </a:r>
            <a:r>
              <a:rPr b="0" lang="ru-RU" sz="2800" spc="-1" strike="noStrike">
                <a:solidFill>
                  <a:srgbClr val="2323dc"/>
                </a:solidFill>
                <a:latin typeface="Century Schoolbook"/>
                <a:ea typeface="Arial Unicode MS"/>
              </a:rPr>
              <a:t>Крики, визг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" name="Text Box 3"/>
          <p:cNvSpPr/>
          <p:nvPr/>
        </p:nvSpPr>
        <p:spPr>
          <a:xfrm>
            <a:off x="130320" y="1440000"/>
            <a:ext cx="409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 advTm="6000"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Text Box 1"/>
          <p:cNvSpPr/>
          <p:nvPr/>
        </p:nvSpPr>
        <p:spPr>
          <a:xfrm>
            <a:off x="900000" y="539640"/>
            <a:ext cx="7559640" cy="631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Schoolbook"/>
                <a:ea typeface="Arial Unicode MS"/>
              </a:rPr>
              <a:t>Физические характеристики шум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  <a:ea typeface="Arial Unicode MS"/>
              </a:rPr>
              <a:t>Уровень шума измеряется в единицах звукового давления — децибелах (дБ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 </a:t>
            </a:r>
            <a:r>
              <a:rPr b="0" lang="ru-RU" sz="2000" spc="-1" strike="noStrike">
                <a:solidFill>
                  <a:srgbClr val="ff0000"/>
                </a:solidFill>
                <a:latin typeface="Century Schoolbook"/>
                <a:ea typeface="Arial Unicode MS"/>
              </a:rPr>
              <a:t>Болевой порог  </a:t>
            </a:r>
            <a:r>
              <a:rPr b="0" lang="ru-RU" sz="20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                                                                160дБ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 </a:t>
            </a:r>
            <a:r>
              <a:rPr b="0" lang="ru-RU" sz="20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Ракетный двигатель                                                       </a:t>
            </a:r>
            <a:r>
              <a:rPr b="0" lang="ru-RU" sz="18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140дБ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Громкая музыка                                                               120дБ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 </a:t>
            </a:r>
            <a:r>
              <a:rPr b="0" lang="ru-RU" sz="20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Дробильная машина                                                       </a:t>
            </a:r>
            <a:r>
              <a:rPr b="0" lang="ru-RU" sz="18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110дБ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Пресс, метро                                                                     100дБ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Century Schoolbook"/>
                <a:ea typeface="Arial Unicode MS"/>
              </a:rPr>
              <a:t> </a:t>
            </a:r>
            <a:r>
              <a:rPr b="0" lang="ru-RU" sz="2000" spc="-1" strike="noStrike">
                <a:solidFill>
                  <a:srgbClr val="ff0000"/>
                </a:solidFill>
                <a:latin typeface="Century Schoolbook"/>
                <a:ea typeface="Arial Unicode MS"/>
              </a:rPr>
              <a:t>Уровень шума, вредный для слуха                                </a:t>
            </a:r>
            <a:r>
              <a:rPr b="0" lang="ru-RU" sz="20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90дБ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 </a:t>
            </a:r>
            <a:r>
              <a:rPr b="0" lang="ru-RU" sz="20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Товарный поезд(на расстоянии 33 м)                            80дБ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Пылесос (на  расстоянии 3м)                                            70дБ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 </a:t>
            </a:r>
            <a:r>
              <a:rPr b="0" lang="ru-RU" sz="20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Автомобильное движение на автостраде                       60дБ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 </a:t>
            </a:r>
            <a:r>
              <a:rPr b="0" lang="ru-RU" sz="20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Разговор                                                                              40дБ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 </a:t>
            </a:r>
            <a:r>
              <a:rPr b="0" lang="ru-RU" sz="20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Шелест листвы                                                                  10дБ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Громкий разговор в классе                                               40дБ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Хлопанье в ладоши на представлении                           88дБ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«Ура»- хором                                                                     100дБ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Century Schoolbook"/>
                <a:ea typeface="Arial Unicode MS"/>
              </a:rPr>
              <a:t>Девчачий визг                                                                  127дБ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 advTm="6000"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Text Box 1"/>
          <p:cNvSpPr/>
          <p:nvPr/>
        </p:nvSpPr>
        <p:spPr>
          <a:xfrm>
            <a:off x="357120" y="539640"/>
            <a:ext cx="774072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entury Schoolbook"/>
                <a:ea typeface="Arial Unicode MS"/>
              </a:rPr>
              <a:t>Воздействие шума проявляетс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Text Box 2"/>
          <p:cNvSpPr/>
          <p:nvPr/>
        </p:nvSpPr>
        <p:spPr>
          <a:xfrm>
            <a:off x="1260360" y="1357200"/>
            <a:ext cx="2995560" cy="11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4700b8"/>
                </a:solidFill>
                <a:latin typeface="Century Schoolbook"/>
                <a:ea typeface="Arial Unicode MS"/>
              </a:rPr>
              <a:t> </a:t>
            </a:r>
            <a:r>
              <a:rPr b="0" lang="ru-RU" sz="1800" spc="-1" strike="noStrike">
                <a:solidFill>
                  <a:srgbClr val="4700b8"/>
                </a:solidFill>
                <a:latin typeface="Century Schoolbook"/>
                <a:ea typeface="Arial Unicode MS"/>
              </a:rPr>
              <a:t>На слуховой аппарат человека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4700b8"/>
                </a:solidFill>
                <a:latin typeface="Century Schoolbook"/>
                <a:ea typeface="Arial Unicode MS"/>
              </a:rPr>
              <a:t> </a:t>
            </a:r>
            <a:r>
              <a:rPr b="0" lang="ru-RU" sz="1800" spc="-1" strike="noStrike">
                <a:solidFill>
                  <a:srgbClr val="4700b8"/>
                </a:solidFill>
                <a:latin typeface="Century Schoolbook"/>
                <a:ea typeface="Arial Unicode MS"/>
              </a:rPr>
              <a:t>На нервную систему человека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4700b8"/>
                </a:solidFill>
                <a:latin typeface="Century Schoolbook"/>
                <a:ea typeface="Arial Unicode MS"/>
              </a:rPr>
              <a:t> </a:t>
            </a:r>
            <a:r>
              <a:rPr b="0" lang="ru-RU" sz="1800" spc="-1" strike="noStrike">
                <a:solidFill>
                  <a:srgbClr val="4700b8"/>
                </a:solidFill>
                <a:latin typeface="Century Schoolbook"/>
                <a:ea typeface="Arial Unicode MS"/>
              </a:rPr>
              <a:t>На сердечно-сосудистую систему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4700b8"/>
                </a:solidFill>
                <a:latin typeface="Century Schoolbook"/>
                <a:ea typeface="Arial Unicode MS"/>
              </a:rPr>
              <a:t> </a:t>
            </a:r>
            <a:r>
              <a:rPr b="0" lang="ru-RU" sz="1800" spc="-1" strike="noStrike">
                <a:solidFill>
                  <a:srgbClr val="4700b8"/>
                </a:solidFill>
                <a:latin typeface="Century Schoolbook"/>
                <a:ea typeface="Arial Unicode MS"/>
              </a:rPr>
              <a:t>На репродуктивную функцию человека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Text Box 3"/>
          <p:cNvSpPr/>
          <p:nvPr/>
        </p:nvSpPr>
        <p:spPr>
          <a:xfrm>
            <a:off x="3357720" y="2500200"/>
            <a:ext cx="5400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Arial Unicode MS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Century Schoolbook"/>
                <a:ea typeface="Arial Unicode MS"/>
              </a:rPr>
              <a:t>Человек</a:t>
            </a:r>
            <a:r>
              <a:rPr b="0" lang="ru-RU" sz="4000" spc="-1" strike="noStrike">
                <a:solidFill>
                  <a:srgbClr val="000000"/>
                </a:solidFill>
                <a:latin typeface="Century Schoolbook"/>
                <a:ea typeface="Arial Unicode MS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Text Box 4"/>
          <p:cNvSpPr/>
          <p:nvPr/>
        </p:nvSpPr>
        <p:spPr>
          <a:xfrm>
            <a:off x="2571840" y="3143160"/>
            <a:ext cx="5759280" cy="32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Arial Unicode MS"/>
              </a:rPr>
              <a:t>            </a:t>
            </a:r>
            <a:r>
              <a:rPr b="1" lang="ru-RU" sz="1800" spc="-1" strike="noStrike">
                <a:solidFill>
                  <a:srgbClr val="000000"/>
                </a:solidFill>
                <a:latin typeface="Century Schoolbook"/>
                <a:ea typeface="Arial Unicode MS"/>
              </a:rPr>
              <a:t>Становитс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4700b8"/>
                </a:solidFill>
                <a:latin typeface="Century Schoolbook"/>
                <a:ea typeface="Arial Unicode MS"/>
              </a:rPr>
              <a:t>  </a:t>
            </a:r>
            <a:r>
              <a:rPr b="0" lang="ru-RU" sz="1800" spc="-1" strike="noStrike">
                <a:solidFill>
                  <a:srgbClr val="4700b8"/>
                </a:solidFill>
                <a:latin typeface="Century Schoolbook"/>
                <a:ea typeface="Arial Unicode MS"/>
              </a:rPr>
              <a:t>Раздражительным, нервным, слабым,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4700b8"/>
                </a:solidFill>
                <a:latin typeface="Century Schoolbook"/>
                <a:ea typeface="Arial Unicode MS"/>
              </a:rPr>
              <a:t>    </a:t>
            </a:r>
            <a:r>
              <a:rPr b="0" lang="ru-RU" sz="1800" spc="-1" strike="noStrike">
                <a:solidFill>
                  <a:srgbClr val="4700b8"/>
                </a:solidFill>
                <a:latin typeface="Century Schoolbook"/>
                <a:ea typeface="Arial Unicode MS"/>
              </a:rPr>
              <a:t>забывчивым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4700b8"/>
                </a:solidFill>
                <a:latin typeface="Century Schoolbook"/>
                <a:ea typeface="Arial Unicode MS"/>
              </a:rPr>
              <a:t> </a:t>
            </a:r>
            <a:r>
              <a:rPr b="0" lang="ru-RU" sz="1800" spc="-1" strike="noStrike">
                <a:solidFill>
                  <a:srgbClr val="4700b8"/>
                </a:solidFill>
                <a:latin typeface="Century Schoolbook"/>
                <a:ea typeface="Arial Unicode MS"/>
              </a:rPr>
              <a:t>Тревожным, испуганным, плохо видит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4700b8"/>
                </a:solidFill>
                <a:latin typeface="Century Schoolbook"/>
                <a:ea typeface="Arial Unicode MS"/>
              </a:rPr>
              <a:t>   </a:t>
            </a:r>
            <a:r>
              <a:rPr b="0" lang="ru-RU" sz="1800" spc="-1" strike="noStrike">
                <a:solidFill>
                  <a:srgbClr val="4700b8"/>
                </a:solidFill>
                <a:latin typeface="Century Schoolbook"/>
                <a:ea typeface="Arial Unicode MS"/>
              </a:rPr>
              <a:t>ухудшается  интеллектуальная деятельность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4700b8"/>
                </a:solidFill>
                <a:latin typeface="Century Schoolbook"/>
                <a:ea typeface="Arial Unicode MS"/>
              </a:rPr>
              <a:t>  </a:t>
            </a:r>
            <a:r>
              <a:rPr b="0" lang="ru-RU" sz="1800" spc="-1" strike="noStrike">
                <a:solidFill>
                  <a:srgbClr val="4700b8"/>
                </a:solidFill>
                <a:latin typeface="Century Schoolbook"/>
                <a:ea typeface="Arial Unicode MS"/>
              </a:rPr>
              <a:t>Быстро утомляемым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Arial Unicode MS"/>
              </a:rPr>
              <a:t>               </a:t>
            </a:r>
            <a:r>
              <a:rPr b="1" lang="ru-RU" sz="1800" spc="-1" strike="noStrike">
                <a:solidFill>
                  <a:srgbClr val="000000"/>
                </a:solidFill>
                <a:latin typeface="Century Schoolbook"/>
                <a:ea typeface="Arial Unicode MS"/>
              </a:rPr>
              <a:t>Приобретает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4700b8"/>
                </a:solidFill>
                <a:latin typeface="Century Schoolbook"/>
                <a:ea typeface="Arial Unicode MS"/>
              </a:rPr>
              <a:t> </a:t>
            </a:r>
            <a:r>
              <a:rPr b="0" lang="ru-RU" sz="1800" spc="-1" strike="noStrike">
                <a:solidFill>
                  <a:srgbClr val="4700b8"/>
                </a:solidFill>
                <a:latin typeface="Century Schoolbook"/>
                <a:ea typeface="Arial Unicode MS"/>
              </a:rPr>
              <a:t>Гипертоническую болезнь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4700b8"/>
                </a:solidFill>
                <a:latin typeface="Century Schoolbook"/>
                <a:ea typeface="Arial Unicode MS"/>
              </a:rPr>
              <a:t> </a:t>
            </a:r>
            <a:r>
              <a:rPr b="0" lang="ru-RU" sz="1800" spc="-1" strike="noStrike">
                <a:solidFill>
                  <a:srgbClr val="4700b8"/>
                </a:solidFill>
                <a:latin typeface="Century Schoolbook"/>
                <a:ea typeface="Arial Unicode MS"/>
              </a:rPr>
              <a:t>Бессонницу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4700b8"/>
                </a:solidFill>
                <a:latin typeface="Century Schoolbook"/>
                <a:ea typeface="Arial Unicode MS"/>
              </a:rPr>
              <a:t> </a:t>
            </a:r>
            <a:r>
              <a:rPr b="0" lang="ru-RU" sz="1800" spc="-1" strike="noStrike">
                <a:solidFill>
                  <a:srgbClr val="4700b8"/>
                </a:solidFill>
                <a:latin typeface="Century Schoolbook"/>
                <a:ea typeface="Arial Unicode MS"/>
              </a:rPr>
              <a:t>Неправильный обмен веществ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4700b8"/>
                </a:solidFill>
                <a:latin typeface="Century Schoolbook"/>
                <a:ea typeface="Arial Unicode MS"/>
              </a:rPr>
              <a:t> </a:t>
            </a:r>
            <a:r>
              <a:rPr b="0" lang="ru-RU" sz="1800" spc="-1" strike="noStrike">
                <a:solidFill>
                  <a:srgbClr val="4700b8"/>
                </a:solidFill>
                <a:latin typeface="Century Schoolbook"/>
                <a:ea typeface="Arial Unicode MS"/>
              </a:rPr>
              <a:t>Снижается порог чувствительности нервных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4700b8"/>
                </a:solidFill>
                <a:latin typeface="Century Schoolbook"/>
                <a:ea typeface="Arial Unicode MS"/>
              </a:rPr>
              <a:t>   </a:t>
            </a:r>
            <a:r>
              <a:rPr b="0" lang="ru-RU" sz="1800" spc="-1" strike="noStrike">
                <a:solidFill>
                  <a:srgbClr val="4700b8"/>
                </a:solidFill>
                <a:latin typeface="Century Schoolbook"/>
                <a:ea typeface="Arial Unicode MS"/>
              </a:rPr>
              <a:t>клеток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23" name="Picture 5" descr=""/>
          <p:cNvPicPr/>
          <p:nvPr/>
        </p:nvPicPr>
        <p:blipFill>
          <a:blip r:embed="rId1"/>
          <a:stretch/>
        </p:blipFill>
        <p:spPr>
          <a:xfrm>
            <a:off x="539640" y="3351240"/>
            <a:ext cx="1981440" cy="204948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7T20:41:28Z</dcterms:created>
  <dc:creator>Ванек</dc:creator>
  <dc:description/>
  <dc:language>en-US</dc:language>
  <cp:lastModifiedBy>КарМаН</cp:lastModifiedBy>
  <dcterms:modified xsi:type="dcterms:W3CDTF">2011-08-23T12:14:27Z</dcterms:modified>
  <cp:revision>12</cp:revision>
  <dc:subject/>
  <dc:title>Проект на тему: «Негативное влияние шума на  здоровье человека»</dc:title>
</cp:coreProperties>
</file>